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723-C573-41FF-9DF0-11151D5B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362-F9DB-4643-A142-3E2A51F9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16C-1DC3-4EBD-991D-9CB39718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B79-5114-4EF7-804B-8E5D6879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351-56CD-4F7E-853B-50ED031E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AE3-16AA-4594-977E-FB91D259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03E-7F89-48DB-B00A-90853835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A41-A68B-4400-A6D7-EFD2578B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5E7-B734-4B13-9B05-C9E67F47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9ED-FDA6-4D4A-9F4F-224DF47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946-6986-4390-B351-CDC8F65A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F4F-303A-4011-8877-AE697C3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BDC7-C2F1-4164-8DA9-BCAC6A71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ódigo Civil d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e g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e Espe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Comple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disposições finais e transitó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Times New Roman"/>
              </a:rPr>
              <a:t>Código Civil d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e g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pesso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B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actos Juríd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ódigo Civil do Brasi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e Especi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Direito das Obrig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Direito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Direito das Coi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Direito da famí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Direito das Suces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ódigo Civil d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Comple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disposições finais e transitó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9:13:30Z</dcterms:created>
  <dc:creator>Manuel Pita</dc:creator>
  <dc:description/>
  <dc:language>en-US</dc:language>
  <cp:lastModifiedBy>Manuel Pita</cp:lastModifiedBy>
  <dcterms:modified xsi:type="dcterms:W3CDTF">2005-09-25T14:44:49Z</dcterms:modified>
  <cp:revision>2</cp:revision>
  <dc:subject/>
  <dc:title>Código Civil do Brasil</dc:title>
</cp:coreProperties>
</file>