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A44-A0FE-4861-ADC0-8D8B7884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1DF-5A20-4D16-8585-B4E4A7A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121-D195-462A-BB26-8FAF7E30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930-57F1-4AD8-A3EB-31C74265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378-4BF8-43FF-8765-06A1FBE1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D14-90A4-4D7B-BD73-F0BF460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A4C-DEEC-4F10-AE2F-E2C89D86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E76-198A-4D00-BFD1-3E541C97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CEA-2C58-4A6A-9D67-38605E0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B53-9A40-4CCC-A349-ED50982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067-CB6C-454A-8D59-7680CD5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144-BCCC-4B01-9BCF-DB3D9F8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4198-44A8-4C09-B6F5-7BAA918F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vocat.qc.ca/public/iiccqvachon1.htm" TargetMode="External"/><Relationship Id="rId2" Type="http://schemas.openxmlformats.org/officeDocument/2006/relationships/hyperlink" Target="http://www.avocat.qc.ca/public/iiccqvachon2.htm" TargetMode="External"/><Relationship Id="rId3" Type="http://schemas.openxmlformats.org/officeDocument/2006/relationships/hyperlink" Target="http://www.avocat.qc.ca/public/iiccqvachon3.htm" TargetMode="External"/><Relationship Id="rId4" Type="http://schemas.openxmlformats.org/officeDocument/2006/relationships/hyperlink" Target="http://www.avocat.qc.ca/public/iiccqvachon3.htm" TargetMode="External"/><Relationship Id="rId5" Type="http://schemas.openxmlformats.org/officeDocument/2006/relationships/hyperlink" Target="http://www.avocat.qc.ca/public/iiccqvachon3.htm" TargetMode="External"/><Relationship Id="rId6" Type="http://schemas.openxmlformats.org/officeDocument/2006/relationships/hyperlink" Target="http://www.avocat.qc.ca/public/iiccqvachon3.htm" TargetMode="External"/><Relationship Id="rId7" Type="http://schemas.openxmlformats.org/officeDocument/2006/relationships/hyperlink" Target="http://www.avocat.qc.ca/public/iiccqvachon3.htm" TargetMode="External"/><Relationship Id="rId8" Type="http://schemas.openxmlformats.org/officeDocument/2006/relationships/hyperlink" Target="http://www.avocat.qc.ca/public/iiccqvachon3.htm" TargetMode="External"/><Relationship Id="rId9" Type="http://schemas.openxmlformats.org/officeDocument/2006/relationships/hyperlink" Target="http://www.avocat.qc.ca/public/iiccqvachon3.htm" TargetMode="External"/><Relationship Id="rId10" Type="http://schemas.openxmlformats.org/officeDocument/2006/relationships/hyperlink" Target="http://www.avocat.qc.ca/public/iiccqvachon3.htm" TargetMode="External"/><Relationship Id="rId11" Type="http://schemas.openxmlformats.org/officeDocument/2006/relationships/hyperlink" Target="http://www.avocat.qc.ca/public/iiccqvachon4.htm" TargetMode="External"/><Relationship Id="rId12" Type="http://schemas.openxmlformats.org/officeDocument/2006/relationships/hyperlink" Target="http://www.avocat.qc.ca/public/iiccqvachon5.htm" TargetMode="External"/><Relationship Id="rId13" Type="http://schemas.openxmlformats.org/officeDocument/2006/relationships/hyperlink" Target="http://www.avocat.qc.ca/public/iiccqvachon6.htm" TargetMode="External"/><Relationship Id="rId14" Type="http://schemas.openxmlformats.org/officeDocument/2006/relationships/hyperlink" Target="http://www.avocat.qc.ca/public/iiccqvachon7.htm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vocat.qc.ca/public/iiccqvachon1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ocat.qc.ca/public/iiccqvachon5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Civil do Quebe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vre 1 : Le Droi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vre 2 : Le Droit de la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vre 3 : 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e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roit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s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pt-PT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ucc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Livre 4 : Le Droit des b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Livre 5 : Le Droit des obligations (contrats et responsabil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Livre 6 : Le Droit des priorités et des hyp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Livre 7 : Le Droit de la pre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vre 8 : Le Droit de la pr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vre 9 : Le Droit de la publicité des dr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vre 10 : Le Droit international 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das 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vre 1 : Le Droit d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e 1 : Les Personnes phys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e 2 : Les Personnes m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ito das Obrig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vre 5 : Le Droit des obligations (contrats et responsabilit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1 : La Responsabilité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2 : La 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3 : La Vente d'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4 : Le Lo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5 : Le Contrat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6 : Le Contrat d'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7 : Le Man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8 : La Soci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9 : Le Cau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nes</cp:lastModifiedBy>
  <dcterms:modified xsi:type="dcterms:W3CDTF">2007-09-26T18:56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