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D0AD6-D980-4FA7-B4AB-47DFB5057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EF69E-0A1E-4298-A64D-427B40F65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DD5FF-3BF2-4C47-B234-A210138AF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DB034-108E-4E30-A5A0-A07023026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8A4D5-A3DE-4917-A969-721CE5311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A4509-D84E-43FF-B8D3-478D185B6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F44C3-11DD-4B43-B16D-EAD64AC47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E5A0E-FDB4-4070-9E40-1FA8A69D3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FABB7-69EC-4590-AB4A-A84C4063B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9B4AE-0DF3-46B1-8F9F-BEAE235C6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52BA5-5E78-4F93-BA03-62B93275B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E143E-C67F-4A24-AAB6-455A1679C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6EE3A-583E-4719-BC57-003A5A2D37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ódigo Civil Holandê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Livr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Direito das pessoas e da famíl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Direito das pessoas colectiv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Direito patrimonial em ge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Direito das sucessõ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Direitos rea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Parte geral do direito das obrigaçõ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Contratos em espec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Contratos em especial (continuaçã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Direito dos transport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xxnes</cp:lastModifiedBy>
  <dcterms:modified xsi:type="dcterms:W3CDTF">2007-09-25T18:22:49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