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F13C-7438-429B-A067-A856CF35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43BE-CDE3-4509-8592-3AF58CC7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0B30-8E2A-46BE-AA8F-763EA194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758B-9C31-4078-B66C-30058E2D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ECE7-D207-48BB-9F6C-D679363B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E05A-A7FE-4F20-8405-37F057D6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C275-3CC2-4198-BA27-124B5172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EB63-DF6F-4BF6-A8E2-88CC7170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DA58-10C9-4FF3-B57F-DFBBB370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C22D-D90A-469E-A3D8-EF5B35F8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769C-8D37-47D9-815D-10AA2627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D46-2674-47F0-8F98-FB2707BC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99EE-B108-4E4A-9DE4-02D2DB1DD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ódigo civil Suíç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ítulo Preli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o I- Direito das Pesso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o II- Direito da Famí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o III- Direito das Sucess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ro IV- Direitos Re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ódigo das Obrig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8:54:35Z</dcterms:created>
  <dc:creator>Manuel Pita</dc:creator>
  <dc:description/>
  <dc:language>en-US</dc:language>
  <cp:lastModifiedBy>Manuel Pita</cp:lastModifiedBy>
  <dcterms:modified xsi:type="dcterms:W3CDTF">2005-09-24T08:54:47Z</dcterms:modified>
  <cp:revision>1</cp:revision>
  <dc:subject/>
  <dc:title>Código civil Suíço </dc:title>
</cp:coreProperties>
</file>