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580-C62E-4A54-B995-C91DB13D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F4E-2208-4C92-BA9C-663AC04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C87-04FC-47AC-95CF-24DF42B1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1C1-A771-4839-B654-9FE496A9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181-1D3D-4128-A417-8384644E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5C9-FF0D-4C59-BD84-502B3B10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7C6-3E8E-45B7-8F9E-7B2CA83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819-EDE7-4814-B32D-A3F61019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474-C19E-431F-AB90-A5CC5AB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BA4-557F-46E7-A11C-9EFB5FE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A89-2C6C-4412-BA13-58F1D6B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F86-0278-4C13-B30F-1E464D2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34DD-8ECF-4347-8058-C5F228BCF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ce civ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Primo - Delle Persone e della Fami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secondo – Delle succe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terzo – Della prop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quarto – Delle Obblig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Quinto – Del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sexto – Della Tutela dei diri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8:38:40Z</dcterms:created>
  <dc:creator>Manuel Pita</dc:creator>
  <dc:description/>
  <dc:language>en-US</dc:language>
  <cp:lastModifiedBy>Manuel Pita</cp:lastModifiedBy>
  <dcterms:modified xsi:type="dcterms:W3CDTF">2005-09-24T08:38:50Z</dcterms:modified>
  <cp:revision>1</cp:revision>
  <dc:subject/>
  <dc:title>Codice civile</dc:title>
</cp:coreProperties>
</file>