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D9B9-A4D9-45F5-9977-4D42C815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E8C4-006A-4A37-8369-E47ABEC6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D2B0-6FA5-4270-86F9-8A46231D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CD20-AC88-48DB-8139-39BAEBDA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382B-FFD3-4755-996A-D7D4B988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AFA4-7C69-44D8-8053-7FEB50C6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6DB6-6180-49C0-9724-5EF78030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407B-D5A6-4723-90CE-FB5B0A7E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9D94-F3EE-4FC6-BCF4-729B500D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701-138A-426F-96E8-5A2AFECA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B5D7-A7A8-478D-AED6-2877C191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8F3C-53A6-4795-A7B3-7061941A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1E19-EFDA-4523-B41A-A5C4B7C1D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Times New Roman"/>
              </a:rPr>
              <a:t>Code Civ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re Préliminaire- De la publication, des effets, et de l`application des lois en Géné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r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-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person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re II- Des biens et des différentes modifications de la proprié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re III- Des différentes maniéres dont on acquiert la proprié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08:34:41Z</dcterms:created>
  <dc:creator>Manuel Pita</dc:creator>
  <dc:description/>
  <dc:language>en-US</dc:language>
  <cp:lastModifiedBy>Manuel Pita</cp:lastModifiedBy>
  <dcterms:modified xsi:type="dcterms:W3CDTF">2005-09-24T08:34:55Z</dcterms:modified>
  <cp:revision>1</cp:revision>
  <dc:subject/>
  <dc:title>Code Civil</dc:title>
</cp:coreProperties>
</file>