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782-1B45-43B0-A3A9-3003B4F7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D40-AB74-41ED-8513-A52917EE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EF4-9C4C-46F0-B6F5-D57A08B2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CCC-3EB5-478F-BA1F-56E8751C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25A-BA62-4D82-A15B-3E35DA1B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0E5-3096-488A-B778-F30ECA2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E20-1E96-416C-B889-76DE936E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BBE-0CA3-4C2C-988F-2FF36DC2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911-E4CB-470E-B76C-32E355B2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E6D-3F7C-4F18-A750-3ED75C33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C86-88D0-484E-AE7D-300CEF8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EA9-FC0B-41F9-BBF2-8BEF98C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B4E-1FFB-46A9-8448-AC0769EAE986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ódigo de Sea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- Da Capacidade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 -  Da aquisição dos dir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I – Dos direitos de proprie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V – Da ofensa dos direitos e da sua repa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e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- Da Capacidade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Ú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e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 -  Da aquisição dos dir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 – Dos direitos originários e dos que se adquirem por facto e vontade própria independentemente da cooperação de out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 – Dos direitos que se adquirem por facto e vontade própria e de outrem conju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I – Dos direitos que se adquirem por mero facto de outrem, e dos que se adquirem por simples disposição da 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e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I – Dos direitos de propried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ro Ú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Times New Roman"/>
              </a:rPr>
              <a:t>Parte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fensa dos direitos e da sua repa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 – Da responsabilidade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- Da prova dos direitos e da restituição d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8:01:01Z</dcterms:created>
  <dc:creator>Manuel Pita</dc:creator>
  <dc:description/>
  <dc:language>en-US</dc:language>
  <cp:lastModifiedBy>mapt</cp:lastModifiedBy>
  <dcterms:modified xsi:type="dcterms:W3CDTF">2005-09-28T10:56:55Z</dcterms:modified>
  <cp:revision>5</cp:revision>
  <dc:subject/>
  <dc:title>Código de Seabra</dc:title>
</cp:coreProperties>
</file>