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B6A6E-56EA-451B-9266-9CE76C00AEAF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Franz Wieacker, História do Direito Privado Moderno, FCG, 1980,pp. 558-5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69C7-BBE0-457C-A4FD-3067752FB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FADD-E3EB-47E3-A35E-25ACC41AD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A75B-C3ED-4310-9F11-81C8BC17B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23AF-6302-4F53-B16C-420BAF229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D1EB-5965-403C-8279-D84992D20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7ED5-9528-4F83-A311-7D618BDCD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920F-266F-47DA-B305-E655F52EB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57FF-F767-40D7-BB4D-733896C51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AA9C-2781-42A5-9579-E79EC516A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B441-0981-4466-B997-BC8AA833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16F4-35EC-4FBA-9B36-3410C2ED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1365-973F-4489-999B-4249B4C0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F4459-7C95-4064-95BA-46656BF55EEA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ito Civ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i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classificação germân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í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ualdade de crité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ão há um critério unitá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J obrigacionais ou reais e familiares ou sucessó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ácter incompl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de situar o direito das pessoas singulares ou colectiv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de situar os direitos da personalida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e G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rí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Menezes Cordeiro [2005, §6.º, p.111-116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Def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Mota Pinto, 4.ed., pp.17-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i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O direito civil como direito priv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O direito civil como direito privado com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reito privado comum e direitos privados especia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Direito comer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Direito do trabal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ito comer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Art.º 1.º - Objecto da lei comercial</a:t>
            </a:r>
            <a:br>
              <a:rPr sz="2000"/>
            </a:b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A lei comercial rege os actos de comércio sejam ou não comerciantes as pessoas que neles intervém.</a:t>
            </a:r>
            <a:br>
              <a:rPr sz="1600"/>
            </a:b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Art.º 2.º - Actos de comércio</a:t>
            </a:r>
            <a:br>
              <a:rPr sz="2000"/>
            </a:b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erão considerados actos de comércio todos aqueles que se acharem especialmente regulados neste Código, e, além deles, todos os contratos e obrigações dos comerciantes, que não forem de natureza exclusivamente civil, se o contrário do próprio acto não resultar.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Art.º 3.º - Critério de integração</a:t>
            </a:r>
            <a:br>
              <a:rPr sz="2000"/>
            </a:b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e as questões sobre direitos e obrigações comerciais não puderem ser resolvidas, nem pelo texto da lei comercial, nem pelo seu espírito, nem pelos casos análogos nela prevenidos, serão decididas pelo direito civil.</a:t>
            </a:r>
            <a:br>
              <a:rPr sz="2000"/>
            </a:br>
            <a:br>
              <a:rPr sz="1600"/>
            </a:b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ito do Trabal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ato de trabal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TIGO 1152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Noçã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to de trabalho é aquele pelo qual uma pessoa se obriga, mediante retribuição, a prestar a sua actividade intelectual ou manual a outra pessoa, sob a autoridade e direcção de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TIGO 1153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Reg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contrato de trabalho está sujeito a legislação espec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O objecto do direito civil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[as relações comuns das pessoas comuns: OA, I,17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[ a vida quotidiana do homem comum :  MP, 61; Hörster, 82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[a vida social considerada na sua totalidade: Díez-Picazo...I,44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[ as relações jurídicas em que pode estar em princípio qualquer cidadão...o direito que se refere a todos: Larenz, 6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O direito civil na história do direit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O ius civile em R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 recepção do ius civile na Idade Mé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Os Códigos civis do séc. X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O Código civil alem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Códigos civis do séc. X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ódigo civil Suíço [1907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dice Civile it. de 19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ódigo civil português de 18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ódigo Civil português de 196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mos do Direito Civ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lassificação germâ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rigações [397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is [1251…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ília [1576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essões [2024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pt</cp:lastModifiedBy>
  <dcterms:modified xsi:type="dcterms:W3CDTF">2006-09-21T12:21:18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