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C65B-21F1-4752-93BB-6BB7F3902209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4F00-5773-4219-8CBA-9FD5A5270500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80C2-55B6-4827-B2BE-FD2D2B6FE7E3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E66E-1C68-4B2A-BE71-6FA4D283D623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5554-A6C0-4FF6-838E-205C7F710E69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86D8-6964-4A60-A883-F3F8AB31A2B5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7B82-EE60-4CD4-80AB-F2798B5154D0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4EE4-52BA-4597-8C46-2F66A6A2C0AB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B29C-40E1-4EAD-A93A-9C3418E372D0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9783-FB83-46F1-9D73-5FACA298E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25F5-CFB3-4F7C-9945-B4505307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6F34-0087-4EA1-B6ED-B90BCB060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F30E-4D0F-4382-8C85-295EA9359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5EE1-7580-4148-8E07-1B10DBC44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BC34-E36B-4424-AE62-2B82F1AF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F6C6-B60D-4C6E-8514-2964A7E0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62D3-BDE9-4363-B124-26E48B5C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03F5-0F3C-4C2B-ABAD-AAEAC59A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6374-0B76-4290-A2EE-1FCF8F89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C906-3B9B-4D4F-B53F-73850281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8990-7BC8-4884-B3DE-ED41E41A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6B1E-5E74-4DBB-A7D2-88F07CC6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C4A6-83B5-49C8-BA39-F5D07C9C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3A7F-D540-4ECC-BED5-2A8C60CC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120F-97CB-4343-B319-9EBDC2A60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5D39-A1F9-4ECE-911A-6F40B2E3C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D0E8-593D-42B9-AD5B-CC3999CF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9548-BEA0-4EC6-9E55-5B10481A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2B20-3372-428F-AC35-84672784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D5F9-8F7F-44EF-A596-2304A539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ACF0-5892-45D3-B121-77296A96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BCDE-F632-41C7-867B-C42BBD95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3A49-6302-4044-9BFF-E2D16338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0f0f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4658-9D93-4751-9FCF-1BA0F6A390A6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D74A-66C3-4ABD-A08D-E42C54F08273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FB96-2BC1-4448-822F-5110AAFA43C1}" type="slidenum">
              <a:rPr b="0" lang="pt-P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66ccff"/>
                </a:solidFill>
                <a:latin typeface="Tahoma"/>
              </a:rPr>
              <a:t>TGDP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99720" y="4581000"/>
            <a:ext cx="7358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Garamond"/>
              </a:rPr>
              <a:t>Valores negativo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Garamond"/>
              </a:rPr>
              <a:t>dos actos e negócios  juríd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Marcador de Posição do Número do Diapositivo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B96F-4943-4753-B7FD-513584713D48}" type="slidenum">
              <a:rPr b="0" lang="pt-P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Garamond"/>
              </a:rPr>
              <a:t>Invalidades – conversão (</a:t>
            </a:r>
            <a:r>
              <a:rPr b="1" lang="pt-PT" sz="2400" spc="-1" strike="noStrike">
                <a:solidFill>
                  <a:srgbClr val="3333cc"/>
                </a:solidFill>
                <a:latin typeface="Garamond"/>
              </a:rPr>
              <a:t>293.º</a:t>
            </a:r>
            <a:r>
              <a:rPr b="1" lang="pt-PT" sz="2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- aproveitamento como NJ diverso (apenas há um NJ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Requisi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1800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Garamond"/>
              </a:rPr>
              <a:t>Manutenção dos requisitos essenciais de substância e de forma (238.º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1800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Garamond"/>
              </a:rPr>
              <a:t>Respeito pela vontade hipotética das partes (integração – 239.º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Marcador de Posição do Número do Diapositivo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5555-C14B-46A3-80FB-40870126A49C}" type="slidenum">
              <a:rPr b="0" lang="pt-P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Text Box 1026"/>
          <p:cNvSpPr/>
          <p:nvPr/>
        </p:nvSpPr>
        <p:spPr>
          <a:xfrm>
            <a:off x="304920" y="228600"/>
            <a:ext cx="8305560" cy="71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8080"/>
                </a:solidFill>
                <a:latin typeface="Garamond"/>
              </a:rPr>
              <a:t>Valores negativos dos actos e negócios juríd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(tutela – no sentido de frustração dos desígnios do infrac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3 tipos de 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Garamond"/>
              </a:rPr>
              <a:t>ineficácia em sentido amplo</a:t>
            </a: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Situação em que se encontram os negócios jurídicos que não produzam todos os efeitos que, dado o seu teor, se destinavam a produz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just">
              <a:lnSpc>
                <a:spcPct val="90000"/>
              </a:lnSpc>
              <a:spcBef>
                <a:spcPts val="1800"/>
              </a:spcBef>
              <a:buClr>
                <a:srgbClr val="3333cc"/>
              </a:buClr>
              <a:buSzPct val="80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Inexistência juríd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just">
              <a:lnSpc>
                <a:spcPct val="90000"/>
              </a:lnSpc>
              <a:spcBef>
                <a:spcPts val="1800"/>
              </a:spcBef>
              <a:buClr>
                <a:srgbClr val="3333cc"/>
              </a:buClr>
              <a:buSzPct val="80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Invalid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just">
              <a:lnSpc>
                <a:spcPct val="90000"/>
              </a:lnSpc>
              <a:spcBef>
                <a:spcPts val="1800"/>
              </a:spcBef>
              <a:buClr>
                <a:srgbClr val="3333cc"/>
              </a:buClr>
              <a:buSzPct val="80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Ineficácia em sentido estri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Marcador de Posição do Número do Diapositivo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C74D-2D72-4DD7-BD47-14FC21A55CFE}" type="slidenum">
              <a:rPr b="0" lang="pt-P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8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pt-PT" sz="2800" spc="-1" strike="noStrike">
                <a:solidFill>
                  <a:srgbClr val="000000"/>
                </a:solidFill>
                <a:latin typeface="Garamond"/>
              </a:rPr>
              <a:t>Inexistê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inexistência jurídica - configuração negocial a que o Direito retira qualquer eficácia </a:t>
            </a:r>
            <a:r>
              <a:rPr b="0" lang="pt-PT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Garamond"/>
              </a:rPr>
              <a:t>(não inexistência materi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casos mais graves, em que para o Direito não existe na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Garamond"/>
              </a:rPr>
              <a:t>(ex. art. 1627.º, 1628.º: distinção entre inexistência e </a:t>
            </a:r>
            <a:r>
              <a:rPr b="0" lang="pt-PT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Garamond"/>
              </a:rPr>
              <a:t>anulabilidade dos casamentos civis e nulidade dos casamentos </a:t>
            </a:r>
            <a:r>
              <a:rPr b="0" lang="pt-PT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Garamond"/>
              </a:rPr>
              <a:t>católicos, </a:t>
            </a:r>
            <a:r>
              <a:rPr b="0" lang="pt-PT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Garamond"/>
              </a:rPr>
              <a:t>art. 1647.º - também na inexistência se confia </a:t>
            </a:r>
            <a:r>
              <a:rPr b="0" lang="pt-PT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Garamond"/>
              </a:rPr>
              <a:t>na aparência de casamento – ex.: hermafrodita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categoria controversa – não produção de quaisquer efeitos, impedindo mesmo a tutela de terceiros de boa fé que tenham confiado na aparência de negóc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Garamond"/>
              </a:rPr>
              <a:t>(ex. interpretação de alguma doutrina: interpretação </a:t>
            </a:r>
            <a:r>
              <a:rPr b="0" lang="pt-PT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Garamond"/>
              </a:rPr>
              <a:t>restritiva do art. 1630.º, n.º 1 - como nulidad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Marcador de Posição do Número do Diapositivo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8848-9A41-438B-ABF4-4CF5BFA8EF1C}" type="slidenum">
              <a:rPr b="0" lang="pt-P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380880" y="152280"/>
            <a:ext cx="8458200" cy="89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100"/>
              </a:spcBef>
              <a:buClr>
                <a:srgbClr val="3333cc"/>
              </a:buClr>
              <a:buSzPct val="8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pt-PT" sz="2800" spc="-1" strike="noStrike">
                <a:solidFill>
                  <a:srgbClr val="000000"/>
                </a:solidFill>
                <a:latin typeface="Garamond"/>
              </a:rPr>
              <a:t>Inval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A não produção de efeitos deriva da presença de vícios ou desconformidades com a ordem juríd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3333cc"/>
                </a:solidFill>
                <a:latin typeface="Garamond"/>
              </a:rPr>
              <a:t>a. </a:t>
            </a:r>
            <a:r>
              <a:rPr b="1" lang="pt-PT" sz="2400" spc="-1" strike="noStrike" u="sng">
                <a:solidFill>
                  <a:srgbClr val="3333cc"/>
                </a:solidFill>
                <a:uFillTx/>
                <a:latin typeface="Garamond"/>
              </a:rPr>
              <a:t>Nulidade</a:t>
            </a:r>
            <a:r>
              <a:rPr b="1" lang="pt-PT" sz="2400" spc="-1" strike="noStrike">
                <a:solidFill>
                  <a:srgbClr val="3333cc"/>
                </a:solidFill>
                <a:latin typeface="Garamond"/>
              </a:rPr>
              <a:t> Art. 286.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800"/>
              </a:spcBef>
              <a:buClr>
                <a:srgbClr val="3333cc"/>
              </a:buClr>
              <a:buSzPct val="8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contrariedade à lei imperativa </a:t>
            </a:r>
            <a:r>
              <a:rPr b="0" lang="pt-PT" sz="2400" spc="-1" strike="noStrike">
                <a:solidFill>
                  <a:srgbClr val="000000"/>
                </a:solidFill>
                <a:latin typeface="Garamond"/>
              </a:rPr>
              <a:t>(294.º)</a:t>
            </a: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 ou ao Direito O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falta de algum elemento essencial do negócio </a:t>
            </a:r>
            <a:r>
              <a:rPr b="0" lang="pt-PT" sz="2400" spc="-1" strike="noStrike">
                <a:solidFill>
                  <a:srgbClr val="000000"/>
                </a:solidFill>
                <a:latin typeface="Garamond"/>
              </a:rPr>
              <a:t>(por exemplo, o objecto – ex. art. 280.º, n.º 1; a forma – 220.º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800"/>
              </a:spcBef>
              <a:buClr>
                <a:srgbClr val="3333cc"/>
              </a:buClr>
              <a:buSzPct val="8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matriz das invalidades (regime) e tipo res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800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atinge o negócio em si; efeito retroactivo (289.º, n.º 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800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invocável a todo o tem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800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invocável por qualquer interess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800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pode ser 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Garamond"/>
              </a:rPr>
              <a:t>declarada</a:t>
            </a: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pt-PT" sz="2400" spc="-1" strike="noStrike">
                <a:solidFill>
                  <a:srgbClr val="000000"/>
                </a:solidFill>
                <a:latin typeface="Garamond"/>
              </a:rPr>
              <a:t>ex officio</a:t>
            </a: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 pelo tribu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Marcador de Posição do Número do Diapositivo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CADD-1644-49F0-AF4A-AA797B00C69B}" type="slidenum">
              <a:rPr b="0" lang="pt-P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4216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3333cc"/>
                </a:solidFill>
                <a:latin typeface="Garamond"/>
              </a:rPr>
              <a:t>b. </a:t>
            </a:r>
            <a:r>
              <a:rPr b="1" lang="pt-PT" sz="2400" spc="-1" strike="noStrike" u="sng">
                <a:solidFill>
                  <a:srgbClr val="3333cc"/>
                </a:solidFill>
                <a:uFillTx/>
                <a:latin typeface="Garamond"/>
              </a:rPr>
              <a:t>Anulabilid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4216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42160" indent="-5421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enquanto não for judicialmente anulado, o negócio produz provisoriamente os seus efeitos (não é falha estrutural); efeito retroactivo </a:t>
            </a: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(289.º, n.º 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42160" indent="-5421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é deixada na disponibilidade daquele cujo interesse tutela     (legitimidade) – direito potestativo – </a:t>
            </a: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art. 287.º, n.º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42160" indent="-5421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só pode ser arguida dentro do ano subsequente à cessação do víc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42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Garamond"/>
              </a:rPr>
              <a:t>(se o negócio ainda não estiver cumprido, pode ser arguida sem  dependência de prazo – art. 287.º, n.º 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42160" indent="-5421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pode ser sanada mediante confirmação da pessoa a quem compete o direito de anulação </a:t>
            </a: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(art. 288.º) – tem eficácia retroactiva (sana </a:t>
            </a:r>
            <a:r>
              <a:rPr b="1" i="1" lang="pt-PT" sz="2400" spc="-1" strike="noStrike">
                <a:solidFill>
                  <a:srgbClr val="000000"/>
                </a:solidFill>
                <a:latin typeface="Garamond"/>
              </a:rPr>
              <a:t>ab initio </a:t>
            </a: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mesmo em relação a terceiro – n.º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42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42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42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Marcador de Posição do Número do Diapositivo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071C-277F-41FE-84E8-FBA1930A03D1}" type="slidenum">
              <a:rPr b="0" lang="pt-P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8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pt-PT" sz="2800" spc="-1" strike="noStrike">
                <a:solidFill>
                  <a:srgbClr val="000000"/>
                </a:solidFill>
                <a:latin typeface="Garamond"/>
              </a:rPr>
              <a:t>Ineficácia em sentido restri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Negócios jurídicos que, não tendo em si quaisquer vícios, não produzem os seus efeitos, por força de factores exteriores e nos casos previstos na lei </a:t>
            </a:r>
            <a:r>
              <a:rPr b="0" lang="pt-PT" sz="2400" spc="-1" strike="noStrike">
                <a:solidFill>
                  <a:srgbClr val="000000"/>
                </a:solidFill>
                <a:latin typeface="Garamond"/>
              </a:rPr>
              <a:t>(ex.: 610.º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Marcador de Posição do Número do Diapositivo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287E-E3C5-4F09-8A05-B0E12E3E2B4A}" type="slidenum">
              <a:rPr b="0" lang="pt-P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Garamond"/>
              </a:rPr>
              <a:t>Invalidades – restitui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pt-PT" sz="2400" spc="-1" strike="noStrike">
                <a:solidFill>
                  <a:srgbClr val="3333cc"/>
                </a:solidFill>
                <a:latin typeface="Garamond"/>
              </a:rPr>
              <a:t>289.º</a:t>
            </a: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 - relação de liquida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Reciprocidade do dever de restituir – </a:t>
            </a:r>
            <a:r>
              <a:rPr b="1" lang="pt-PT" sz="2400" spc="-1" strike="noStrike">
                <a:solidFill>
                  <a:srgbClr val="3333cc"/>
                </a:solidFill>
                <a:latin typeface="Garamond"/>
              </a:rPr>
              <a:t>art. 290.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Marcador de Posição do Número do Diapositivo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D4F8-50B3-4C27-A2A0-6B45ACCE4939}" type="slidenum">
              <a:rPr b="0" lang="pt-P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Garamond"/>
              </a:rPr>
              <a:t>Invalidades – tutela de tercei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Nulidade ou anulação de um NJ envolve invalidade dos NJ seguint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Tutela da confiança de terceiro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pt-PT" sz="2400" spc="-1" strike="noStrike">
                <a:solidFill>
                  <a:srgbClr val="3333cc"/>
                </a:solidFill>
                <a:latin typeface="Garamond"/>
              </a:rPr>
              <a:t>291.º</a:t>
            </a: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 - especial tutel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bens móveis – 1301.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bens imóveis – 291.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Marcador de Posição do Número do Diapositivo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982F-6F4E-4770-A915-B4FF2831825B}" type="slidenum">
              <a:rPr b="0" lang="pt-P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Garamond"/>
              </a:rPr>
              <a:t>Invalidades – redução (</a:t>
            </a:r>
            <a:r>
              <a:rPr b="1" lang="pt-PT" sz="2800" spc="-1" strike="noStrike">
                <a:solidFill>
                  <a:srgbClr val="3333cc"/>
                </a:solidFill>
                <a:latin typeface="Garamond"/>
              </a:rPr>
              <a:t>292.º</a:t>
            </a:r>
            <a:r>
              <a:rPr b="1" lang="pt-PT" sz="2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- invalidade apenas parc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- vontade das partes quanto à redução (necessidade de articular com arts. 236.º a 239.º) – parte interessada na manutenção (com redução) tenta provar natureza parcial da invalidade / parte não interessada quer provar que sem a parte inválida não haveria negóc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- respeito pela boa f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- respeito pelas regras formais (cfr. 238.º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16:02:37Z</dcterms:created>
  <dc:creator>Cláudia Trabuco</dc:creator>
  <dc:description/>
  <dc:language>en-US</dc:language>
  <cp:lastModifiedBy>Cláudia Trabuco</cp:lastModifiedBy>
  <dcterms:modified xsi:type="dcterms:W3CDTF">2009-11-19T02:24:00Z</dcterms:modified>
  <cp:revision>93</cp:revision>
  <dc:subject/>
  <dc:title>Interpretação e integração</dc:title>
</cp:coreProperties>
</file>