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3777-0FFE-44BB-915D-B39BD4D2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2DA9-7E4F-41C1-9593-D8C9C524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5DFA-B5A5-4681-9D91-4159672F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74B-FC6B-4A29-A007-6030A9D9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D461-549F-4DC9-86A3-C68415B6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CD3-9407-4065-88EA-307278F0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6D31-8302-4E3A-96F1-32E44B8D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49D0-FA71-4D89-A6A2-AC4A88AD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9E64-6DEA-4626-90C0-98CFBEBF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FF8-75A9-44FC-BF14-13017A51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7A01-AC6A-4790-91F0-2EB2F6C0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4B55-D4D1-4B11-B8E3-9E795C2A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9311-2915-4DB9-B114-C2D54462F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conceito de relação juríd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P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tido amp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relação da vida social regulada pelo direito (Savigny:  conteúdo= relação social, forma=direi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modo de ser ou de estar recíproco de duas realidades, juridicamente relevantes (CM,I, 6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ção Juríd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tido restr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relação da vida social regulada pelo direito mediante a atribuição a uma pessoa de um direito e a imposição a outra pessoa de um dever jurídico ou de uma sujeição (MP, p.16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nexo de correspondência recíproca entre direitos e vinculações encabeçados em pessoas jurídicas diferentes (CM, I, 6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12:49:05Z</dcterms:created>
  <dc:creator>Manuel Pita</dc:creator>
  <dc:description/>
  <dc:language>en-US</dc:language>
  <cp:lastModifiedBy>mapt</cp:lastModifiedBy>
  <dcterms:modified xsi:type="dcterms:W3CDTF">2006-09-22T14:56:57Z</dcterms:modified>
  <cp:revision>6</cp:revision>
  <dc:subject/>
  <dc:title>O conceito de relação jurídica</dc:title>
</cp:coreProperties>
</file>