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74A-E6E2-46E0-969E-F50A5161431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753000" y="932004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80D2-A00A-4523-951B-6D98248B60E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753000" y="932004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84C2-4541-4780-8DA8-E9137F0AE7C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53000" y="932004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4590-76D1-463D-8A94-48DFCEFCB49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753000" y="932004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70DD-A087-4E8B-A567-5BDF3D2126F8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753000" y="932004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2995-B8CE-4DA7-9406-893631A8D86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753000" y="932004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DAF-6995-43DC-AAFF-E904F0C8501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F2D-E98A-4D9F-AB59-333993F2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ABC-E02E-4A91-BF10-04B26F1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ECD-5B12-4F23-9E1C-77B25ABB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33F-0271-486E-84BA-40154C26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59E4-046D-4B83-AAF9-1CC76EF6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E59F-BDD6-49B6-AAD7-81A1181E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7DA-22D7-405B-8E17-4E53F863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88B3-01DA-41F7-8793-06EC2C0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F331-9FCC-4F37-B7F2-2F84793E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1BC3-8ECF-4D12-BE09-E38CB3D3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1434-F4F2-444D-8DC9-914F2472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BA5-B140-4B5A-8084-DA15C7A9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BA4-4E63-464D-9D72-88A90CC8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B87-5C9C-460E-B345-211A6E0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52D1-D923-41BB-A839-7816A7B6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24D0-68F8-45F0-B66E-4A26C081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A56B-3B55-48F0-9B26-CE26CDA0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813-0396-4A7A-BC01-D32DF85C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FAB-A9B8-463C-A45B-8F3B023C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768-3E95-4778-81CC-653993B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CAB-5F75-4D9E-B8B8-97B10C5C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508-32BF-4D8A-BB2B-2572AF4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183-9317-456C-B58B-3D2B30A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66E-9E44-4CEA-B5DC-4E4B191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3B87-4086-45AF-A42D-7B51D0E80326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2D5A-1A39-414F-B291-B6E96D3CBA1F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476360" y="3789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46788c"/>
                </a:solidFill>
                <a:latin typeface="Times New Roman"/>
              </a:rPr>
              <a:t>Teoria Geral do Direito Pri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187280" y="2708280"/>
            <a:ext cx="7620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116000" y="1125360"/>
            <a:ext cx="754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Patrícia da Guia Per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12.10.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123720" y="4724280"/>
            <a:ext cx="38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66"/>
                </a:solidFill>
                <a:latin typeface="Times New Roman"/>
              </a:rPr>
              <a:t>Situações Jurídicas Pas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66"/>
                </a:solidFill>
                <a:latin typeface="Times New Roman"/>
              </a:rPr>
              <a:t>(a outra face da moe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692360" y="765000"/>
            <a:ext cx="67644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Alguns aspe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58920" y="1773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Natureza particular do ónus: corresponde a uma situação de desvantagem, que permite atingir uma vant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979640" y="3213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ferente do dever, porque no ónus o resultado é facultativo (no dever o titular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tem de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…; no ónus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precisa de… se quiser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195640" y="4581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 não acatamento do ónus não permite um juízo de ilicitude (ao contrário do de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547640" y="59500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É uma situação absoluta, à qual não corresponde uma posição sim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55640" y="1628280"/>
            <a:ext cx="4537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Exemplos de ón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Ónus da prova: 342.º do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692360" y="486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Ónus de impugnação dos factos articulados pelo Autor (art. 490.º, n.º 2, do CPC) – se não o fizer, estes consideram-se provados (com excepçõ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2050920" y="342900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Ónus de denúncia da desconformidade do  bem dentro de certo prazo (sob pena de caducid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16000" y="6206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rutura (tendencialmente) complexa da relação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411280" y="1628640"/>
            <a:ext cx="525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Compra e V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Obrigação do comprador de pagar o 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268360" y="29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Obrigação do vendedor de entregar a coisa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476360" y="335772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Dever acessório do vendedor de informar sobre o funcionamento da coisa ven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403280" y="407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Dever acessório do vendedor de instalar a coisa vendida de forma a não lesar o património do comp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692360" y="486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Direito potestativo do comprador de resolver o contrato em caso de desconformidade da co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547640" y="57340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- Ónus do comprador de denunciar a desconform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1547640" y="1843560"/>
            <a:ext cx="70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ituações Jurídicas Pas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116000" y="4365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Vinculação (CM), i.e., necessidade jurídica de adoptar um comportamento ou de suportar certos efeitos jurídicos (L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187280" y="3213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itularidade de um dever ou de uma adstrição (P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7"/>
          <p:cNvSpPr/>
          <p:nvPr/>
        </p:nvSpPr>
        <p:spPr>
          <a:xfrm>
            <a:off x="1547640" y="549360"/>
            <a:ext cx="698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ituações Jurídicas Pas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pé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476360" y="198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66"/>
                </a:solidFill>
                <a:latin typeface="Times New Roman"/>
              </a:rPr>
              <a:t>1) Dever jurí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476360" y="2852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Mais importante espécie de situação jurídica passiva, simétrica à mais importante espécie de posição jurídica activa – o direito subj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1619280" y="5013360"/>
            <a:ext cx="669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ub-espéc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ever g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bri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3132000" y="3789360"/>
            <a:ext cx="41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usceptível de vio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(exige uma acção ou uma absten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5"/>
          <p:cNvSpPr/>
          <p:nvPr/>
        </p:nvSpPr>
        <p:spPr>
          <a:xfrm>
            <a:off x="1619280" y="2492280"/>
            <a:ext cx="69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mpende genericamente sobre todas as pesso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u sobre um grupo de pesso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908000" y="692280"/>
            <a:ext cx="63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Dever g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simétrico do direito absolu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124000" y="5805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Dever de respeito pelo direito de proprie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340000" y="4149720"/>
            <a:ext cx="5545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Dever de respeito pela integridade 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468440" y="31226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2268360" y="836640"/>
            <a:ext cx="56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Obri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simétrica do direito de crédi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1763640" y="2421000"/>
            <a:ext cx="676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É um dever relacion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no sentido em que impende sobre pessoas deter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1547640" y="3789360"/>
            <a:ext cx="68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Obrigação de entrega da coisa vendida (art. 789.º, al. b) do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1476360" y="544500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Obrigação de indemnização por facto ilícito (art. 483.º do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476360" y="981000"/>
            <a:ext cx="719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66"/>
                </a:solidFill>
                <a:latin typeface="Times New Roman"/>
              </a:rPr>
              <a:t>2) Suje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simétrica do direito potestativ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835280" y="306864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uportação das consequências constitutivas, modificativas ou extintivas do exercício do respectivo direito potes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763640" y="58053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835280" y="486900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susceptibilidade de vio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(o efeito opera mesmo contra a vontade do seu tit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143000" y="4419720"/>
            <a:ext cx="832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249200" y="5638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1692360" y="1052640"/>
            <a:ext cx="66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Posição do proprietário do prédio serviente, perante a faculdade de o proprietário do prédio encravado constituir servidão de passagem (art. 1550.º do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979640" y="285264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Posição do proprietário perante a faculdade de o comproprietário exercer o direito de preferência em caso de venda da coisa (art. 1409.º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1476360" y="4149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Posição do trabalhador perante a faculdade de o empregador o despedir por justa ca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835280" y="501336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- Posição do proponente perante a faculdade do destinatário da proposta de aceitar a proposta e formar con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908000" y="1484280"/>
            <a:ext cx="604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Distinção impor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Não deve confundir-se a relação jurídica direito potestativo/sujeição, com a relação jurídica emergente do exercício do direito potestativo (direito/de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92360" y="436572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ssim, por exemplo, o proprietário do prédio serviente não pode obstar ao exercício do direito potestativo de constituir servidão, mas pode impedir o exercício do direito de pass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68000" y="1557000"/>
            <a:ext cx="504036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66"/>
                </a:solidFill>
                <a:latin typeface="Times New Roman"/>
              </a:rPr>
              <a:t>3) Ó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32000" y="3357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Necessidade de observar um determinado comportamento como meio de realização de um interesse próprio (CMP;L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332000" y="50846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Necessidade de adoptar um conduta, para obter certo efeito (AM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76360" y="357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1:21:09Z</dcterms:created>
  <dc:creator>acr</dc:creator>
  <dc:description/>
  <dc:language>en-US</dc:language>
  <cp:lastModifiedBy>Cláudia Trabuco</cp:lastModifiedBy>
  <dcterms:modified xsi:type="dcterms:W3CDTF">2009-10-18T16:07:19Z</dcterms:modified>
  <cp:revision>23</cp:revision>
  <dc:subject/>
  <dc:title>Apresentação do PowerPoint</dc:title>
</cp:coreProperties>
</file>