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19EC-699E-461E-A541-48BA313D4A1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A77-3C22-4266-95FB-9B542AD7A6E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EC81-3E23-4C68-8007-7D3681D8254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D6F-BEE3-4616-A384-105DDA43F26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9EE-C8AE-4752-98A3-EC920B5B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61C-CBFD-4DBD-8C93-9425D5E3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539-9FE5-4AA3-BD16-8DE359BB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4F9-A5DF-455B-B4E2-B2A58F5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54BF-3D29-4FA3-BEDD-80F292F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96E0-3368-4279-AD68-841938C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6165-2184-4FDE-B2AC-6CCFFA22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85E7-D33D-4758-82CA-BD407DD0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DD7-4D39-46CD-A07E-7E1C82D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EF6-D18E-44BC-A3C3-0CC18757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BE0-E73E-484F-85C5-7966F1E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76D-9398-424F-B7BC-2112612D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2549-4D15-4474-938B-5FCFB5A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1C7C-C994-4525-B752-9A9C2A4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6820-810D-4D3A-9DDC-E234910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6FC8-3CC2-4B06-8AAE-E296EAD4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AFD5-B2F5-4BDE-85A2-084822B7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97A3D-A8EA-43E9-AF48-0CD3AC3A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AFEBB-B57A-4361-829B-7F3C591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2C58-6E38-414B-9E74-D458B82A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06D5D-2B16-4A01-8692-BD7A04A9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85C4F-2C1C-4395-BBE5-D5C1551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AB3-7F5D-4746-AC85-7DB3DB48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9EFE3-4BEF-4EFB-A925-649197CB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F6A2E-2413-45AC-AD8E-4C950CC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9DB42-896F-4609-873B-393D200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E09C4-7054-40DE-B1D3-B828003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C0011-066C-42D9-A89B-E24D44D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A6C83-3F7D-4612-92B9-9651E3AF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932F1-178C-40E1-B4F7-3B3DD41F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64C7-09EB-4682-B20F-CB969C70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8451-D1BC-46E1-9E9C-370699A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215F-225F-4757-8B4E-A659010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D07-D888-4A4C-A32B-402D67DD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A94E-ABA0-4E5B-96C3-D28E90A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3476-53A5-4D11-89E4-DFB4A68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4D71-042C-4426-947B-92A64E3D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7D3A-A2D2-4D4E-B4B5-D8C1558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3462-50B3-428E-8D13-CE8EE76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36BE-FE04-4EA8-BC7A-FE12C48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B94A-99DB-4120-8FFE-74724C7B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1DCB-8165-4456-ACF1-2331A4D2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3291-E7AF-4185-8F90-ECF92D9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466-D494-4211-B519-1A9DF8B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A57-0803-4280-BAEA-0F52757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C7D-B5FA-4F4E-8365-65EB553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B57-1AFA-4680-9AED-40C1067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4C6-ACA9-486A-BA2C-1BAA9DF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ângulo arredondad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ângulo arredondad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078-8951-4517-9C47-D5A947EDF976}" type="slidenum">
              <a:rPr b="0" lang="pt-PT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ângu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ângu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ângu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ângu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400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ângu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arredondado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arredondado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ângu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D86-4F51-4DE1-B772-84B041974278}" type="slidenum">
              <a:rPr b="0" lang="pt-PT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ângulo arredondad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ângulo arredondad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6E94-F3E1-4BD6-BF91-AEA5354EBBD9}" type="slidenum">
              <a:rPr b="0" lang="pt-PT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ângulo arredondad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arredondad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E52F-EC9D-48D5-B0DF-024219BC3347}" type="slidenum">
              <a:rPr b="0" lang="pt-PT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57140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PT" sz="5400" spc="-1" strike="noStrike">
                <a:solidFill>
                  <a:srgbClr val="4c99ff"/>
                </a:solidFill>
                <a:latin typeface="Trebuchet MS"/>
              </a:rPr>
              <a:t>TGDP</a:t>
            </a:r>
            <a:endParaRPr b="0" lang="en-US" sz="54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9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4c99ff"/>
                </a:solidFill>
                <a:latin typeface="Trebuchet MS"/>
              </a:rPr>
              <a:t>Conteúdo do Negócio Jurídic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Diagrama 4" descr=""/>
          <p:cNvPicPr/>
          <p:nvPr/>
        </p:nvPicPr>
        <p:blipFill>
          <a:blip r:embed="rId1"/>
          <a:stretch/>
        </p:blipFill>
        <p:spPr>
          <a:xfrm>
            <a:off x="1347840" y="2567160"/>
            <a:ext cx="6411960" cy="3936960"/>
          </a:xfrm>
          <a:prstGeom prst="rect">
            <a:avLst/>
          </a:prstGeom>
          <a:ln w="0">
            <a:noFill/>
          </a:ln>
        </p:spPr>
      </p:pic>
      <p:sp>
        <p:nvSpPr>
          <p:cNvPr id="253" name="CaixaDeTexto 6"/>
          <p:cNvSpPr/>
          <p:nvPr/>
        </p:nvSpPr>
        <p:spPr>
          <a:xfrm>
            <a:off x="7143840" y="2071800"/>
            <a:ext cx="1785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271.º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281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334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          </a:t>
            </a: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340.º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    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CaixaDeTexto 3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Cláusula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aixaDeTexto 4"/>
          <p:cNvSpPr/>
          <p:nvPr/>
        </p:nvSpPr>
        <p:spPr>
          <a:xfrm>
            <a:off x="357120" y="20001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Diagrama 5" descr=""/>
          <p:cNvPicPr/>
          <p:nvPr/>
        </p:nvPicPr>
        <p:blipFill>
          <a:blip r:embed="rId1"/>
          <a:stretch/>
        </p:blipFill>
        <p:spPr>
          <a:xfrm>
            <a:off x="1494000" y="2066760"/>
            <a:ext cx="61927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aixaDeTexto 1"/>
          <p:cNvSpPr/>
          <p:nvPr/>
        </p:nvSpPr>
        <p:spPr>
          <a:xfrm>
            <a:off x="214200" y="714240"/>
            <a:ext cx="864396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5698"/>
                </a:solidFill>
                <a:latin typeface="Georgia"/>
              </a:rPr>
              <a:t>CON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ARTIGO 270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(Noção de condi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As partes podem subordinar a um acontecimento futuro e incerto a produção dos efeitos do negócio jurídico ou a sua resolução: no primeiro caso, diz-se </a:t>
            </a:r>
            <a:r>
              <a:rPr b="1" lang="pt-PT" sz="2200" spc="-1" strike="noStrike">
                <a:solidFill>
                  <a:srgbClr val="e90062"/>
                </a:solidFill>
                <a:latin typeface="Georgia"/>
              </a:rPr>
              <a:t>suspens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a condição; no segundo, </a:t>
            </a:r>
            <a:r>
              <a:rPr b="1" lang="pt-PT" sz="2200" spc="-1" strike="noStrike">
                <a:solidFill>
                  <a:srgbClr val="e90062"/>
                </a:solidFill>
                <a:latin typeface="Georgia"/>
              </a:rPr>
              <a:t>resolut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Regr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– pode se aposta livremente nos NJ – </a:t>
            </a:r>
            <a:r>
              <a:rPr b="0" lang="pt-PT" sz="2200" spc="-1" strike="noStrike">
                <a:solidFill>
                  <a:srgbClr val="e90062"/>
                </a:solidFill>
                <a:latin typeface="Georgia"/>
              </a:rPr>
              <a:t>art. 405.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Negócios condicion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Art.1307º/1[Constituição da propriedade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Negócios não condicion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Art. 1618.º/2 [Casamento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Proibição em geral nos actos jurídicos em sentido estr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2054º/1[Aceitação da herança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aixaDeTexto 2"/>
          <p:cNvSpPr/>
          <p:nvPr/>
        </p:nvSpPr>
        <p:spPr>
          <a:xfrm>
            <a:off x="285840" y="642960"/>
            <a:ext cx="8286840" cy="7340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Con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ixaDeTexto 1"/>
          <p:cNvSpPr/>
          <p:nvPr/>
        </p:nvSpPr>
        <p:spPr>
          <a:xfrm>
            <a:off x="428760" y="928800"/>
            <a:ext cx="84294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Condições ilícitas ou imposs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Efeitos sobre o negó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ARTIGO 27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(Condições ilícitas ou impossíve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1. É nulo o negócio jurídico subordinado a uma condição contrária à lei ou à ordem pública, ou ofensiva dos bons costu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2. É igualmente nulo o negócio sujeito a uma condição suspensiva que seja física ou legalmente impossível; se for resolutiva, tem-se a condição por não escri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ixaDeTexto 1"/>
          <p:cNvSpPr/>
          <p:nvPr/>
        </p:nvSpPr>
        <p:spPr>
          <a:xfrm>
            <a:off x="428760" y="928800"/>
            <a:ext cx="84294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Condições ilícitas e imposs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Efeitos sobre o negó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Condição Ilícita, suspensiva ou resol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Negócio nulo - 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A invalidade da condição afecta o valor do negó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(cfr. 1618.º/2, 1852.º/2 – não escritas?  ex.:</a:t>
            </a:r>
            <a:r>
              <a:rPr b="0" i="1" lang="pt-PT" sz="2200" spc="-1" strike="noStrike">
                <a:solidFill>
                  <a:srgbClr val="000000"/>
                </a:solidFill>
                <a:latin typeface="Georgia"/>
              </a:rPr>
              <a:t> caso contigo quando fizeres 100 anos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ângulo 2"/>
          <p:cNvSpPr/>
          <p:nvPr/>
        </p:nvSpPr>
        <p:spPr>
          <a:xfrm>
            <a:off x="357120" y="4429080"/>
            <a:ext cx="86439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Condição impossí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56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  <a:ea typeface="Arial"/>
              </a:rPr>
              <a:t> </a:t>
            </a:r>
            <a:r>
              <a:rPr b="1" lang="pt-PT" sz="2200" spc="-1" strike="noStrike">
                <a:solidFill>
                  <a:srgbClr val="ff5698"/>
                </a:solidFill>
                <a:latin typeface="Georgia"/>
                <a:ea typeface="Arial"/>
              </a:rPr>
              <a:t>Suspens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  <a:ea typeface="Arial"/>
              </a:rPr>
              <a:t> = negócio n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  <a:ea typeface="Arial"/>
              </a:rPr>
              <a:t>A invalidade da condição afecta o valor do negócio. Condição imprópr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56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  <a:ea typeface="Arial"/>
              </a:rPr>
              <a:t> </a:t>
            </a:r>
            <a:r>
              <a:rPr b="1" lang="pt-PT" sz="2200" spc="-1" strike="noStrike">
                <a:solidFill>
                  <a:srgbClr val="ff5698"/>
                </a:solidFill>
                <a:latin typeface="Georgia"/>
                <a:ea typeface="Arial"/>
              </a:rPr>
              <a:t>Resolut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  <a:ea typeface="Arial"/>
              </a:rPr>
              <a:t> = condição não esc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  <a:ea typeface="Arial"/>
              </a:rPr>
              <a:t>O negócio não é afectado pela invalidade da cond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aixaDeTexto 1"/>
          <p:cNvSpPr/>
          <p:nvPr/>
        </p:nvSpPr>
        <p:spPr>
          <a:xfrm>
            <a:off x="428760" y="928800"/>
            <a:ext cx="84294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Pendência da cond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(celebração do NJ… até…verificação da condição ou certeza de que não se verificará – </a:t>
            </a: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275.º/1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Gestão de expectativas jurídicas – 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titularidade precá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e40059"/>
                </a:solidFill>
                <a:latin typeface="Georgia"/>
              </a:rPr>
              <a:t>Boa fé obje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ARTIGO 272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(Pendência da condi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Aquele que contrair uma obrigação ou alienar um direito sob condição suspensiva, ou adquirir um direito sob condição resolutiva, deve agir, na pendência da condição, segundo os </a:t>
            </a: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ditames da boa fé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, por forma que não comprometa a integridade do direito da outra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ângulo 2"/>
          <p:cNvSpPr/>
          <p:nvPr/>
        </p:nvSpPr>
        <p:spPr>
          <a:xfrm>
            <a:off x="357120" y="4429080"/>
            <a:ext cx="864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aixaDeTexto 1"/>
          <p:cNvSpPr/>
          <p:nvPr/>
        </p:nvSpPr>
        <p:spPr>
          <a:xfrm>
            <a:off x="428760" y="928800"/>
            <a:ext cx="84294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Fim da pendência da cond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ARTIGO 276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(Retroactividade da condi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Os efeitos do preenchimento da condição retrotraem-se à data da conclusão do negócio, a não ser que, pela vontade das partes ou pela natureza do acto, hajam de ser reportados a outr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Resolut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– negócio como que não celeb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Suspensiva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– negócio como plenamente celebrado </a:t>
            </a:r>
            <a:r>
              <a:rPr b="0" i="1" lang="pt-PT" sz="2200" spc="-1" strike="noStrike">
                <a:solidFill>
                  <a:srgbClr val="000000"/>
                </a:solidFill>
                <a:latin typeface="Georgia"/>
              </a:rPr>
              <a:t>ab in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(mas </a:t>
            </a: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273.º, 274.º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ângulo 2"/>
          <p:cNvSpPr/>
          <p:nvPr/>
        </p:nvSpPr>
        <p:spPr>
          <a:xfrm>
            <a:off x="357120" y="4429080"/>
            <a:ext cx="864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aixaDeTexto 1"/>
          <p:cNvSpPr/>
          <p:nvPr/>
        </p:nvSpPr>
        <p:spPr>
          <a:xfrm>
            <a:off x="428760" y="928800"/>
            <a:ext cx="8429400" cy="89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5698"/>
                </a:solidFill>
                <a:latin typeface="Georgia"/>
              </a:rPr>
              <a:t>Fim da pendência da cond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ARTIGO 275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(Verificação e não verificação da condi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1. A certeza de que a condição se não pode verificar equivale à sua não verif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2. Se a verificação da condição for impedida, </a:t>
            </a: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contra as regras da boa fé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, por aquele a quem prejudica, tem-se por verificada; se for provocada, nos mesmos termos, por aquele a quem aproveita, considera-se como não verificad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Georgia"/>
              </a:rPr>
              <a:t>Concretização do art.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PT" sz="2200" spc="-1" strike="noStrike">
                <a:solidFill>
                  <a:srgbClr val="e40059"/>
                </a:solidFill>
                <a:latin typeface="Georgia"/>
              </a:rPr>
              <a:t>272.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e40059"/>
                </a:solidFill>
                <a:latin typeface="Georgia"/>
              </a:rPr>
              <a:t>Contrária à boa fé </a:t>
            </a: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– qualquer actuação que incida sobre o processo formativo da condi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eorgia"/>
              </a:rPr>
              <a:t>(contrariando confiança da outra parte; efeitos deixam de estar presente a subordinação a um facto que escapa à vontade de qualquer das par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ângulo 2"/>
          <p:cNvSpPr/>
          <p:nvPr/>
        </p:nvSpPr>
        <p:spPr>
          <a:xfrm>
            <a:off x="357120" y="4429080"/>
            <a:ext cx="864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aixaDeTexto 1"/>
          <p:cNvSpPr/>
          <p:nvPr/>
        </p:nvSpPr>
        <p:spPr>
          <a:xfrm>
            <a:off x="214200" y="714240"/>
            <a:ext cx="8643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5698"/>
                </a:solidFill>
                <a:latin typeface="Georgia"/>
              </a:rPr>
              <a:t>CON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eorgia"/>
              </a:rPr>
              <a:t>ARTIGO 278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eorgia"/>
              </a:rPr>
              <a:t>(Ter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eorgia"/>
              </a:rPr>
              <a:t>Se for estipulado que os efeitos do negócio jurídico comecem ou cessem a partir de certo momento, é aplicável à estipulação, com as necessárias adaptações, o disposto nos artigos 272º e 273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Georgia"/>
              </a:rPr>
              <a:t>Acontecimento futuro mas certo (mera limitação temp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Georgia"/>
              </a:rPr>
              <a:t>Termo (≠prazo – lapso de tempo entre NJ e termo – ex.: contrato de trabalho a ter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2"/>
          <p:cNvSpPr/>
          <p:nvPr/>
        </p:nvSpPr>
        <p:spPr>
          <a:xfrm>
            <a:off x="285840" y="642960"/>
            <a:ext cx="8286840" cy="7340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Ter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CaixaDeTexto 1"/>
          <p:cNvSpPr/>
          <p:nvPr/>
        </p:nvSpPr>
        <p:spPr>
          <a:xfrm>
            <a:off x="285840" y="85716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Diagrama 2" descr=""/>
          <p:cNvPicPr/>
          <p:nvPr/>
        </p:nvPicPr>
        <p:blipFill>
          <a:blip r:embed="rId1"/>
          <a:stretch/>
        </p:blipFill>
        <p:spPr>
          <a:xfrm>
            <a:off x="633240" y="1390680"/>
            <a:ext cx="78822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aixaDeTexto 2"/>
          <p:cNvSpPr/>
          <p:nvPr/>
        </p:nvSpPr>
        <p:spPr>
          <a:xfrm>
            <a:off x="357120" y="928800"/>
            <a:ext cx="83581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90062"/>
                </a:solidFill>
                <a:latin typeface="Georgia"/>
              </a:rPr>
              <a:t>Conteúdo e Obj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90062"/>
                </a:solidFill>
                <a:latin typeface="Georgia"/>
              </a:rPr>
              <a:t>Conteúdo - 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regulação jurídica que os autores dos NJ puseram em vigor e pela qual se auto-vincularam dentro dos limites da autonomia priv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90062"/>
                </a:solidFill>
                <a:latin typeface="Georgia"/>
              </a:rPr>
              <a:t>Objecto - </a:t>
            </a:r>
            <a:r>
              <a:rPr b="0" i="1" lang="pt-PT" sz="2800" spc="-1" strike="noStrike">
                <a:solidFill>
                  <a:srgbClr val="000000"/>
                </a:solidFill>
                <a:latin typeface="Georgia"/>
              </a:rPr>
              <a:t>quid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 sobre o qual incide a disciplina neg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rebuchet MS"/>
              </a:rPr>
              <a:t>Jurisprudência</a:t>
            </a:r>
            <a:endParaRPr b="0" lang="en-US" sz="44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6666"/>
                </a:solidFill>
                <a:latin typeface="Georgia"/>
              </a:rPr>
              <a:t>Condição resolu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eorgia"/>
              </a:rPr>
              <a:t>STJ, de 19-10-2004 </a:t>
            </a:r>
            <a:br>
              <a:rPr sz="2400"/>
            </a:br>
            <a:r>
              <a:rPr b="0" lang="pt-PT" sz="2400" spc="-1" strike="noStrike">
                <a:solidFill>
                  <a:srgbClr val="666666"/>
                </a:solidFill>
                <a:latin typeface="Georgia"/>
              </a:rPr>
              <a:t>(Araújo Barro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STJ, de 19-10-2004 </a:t>
            </a:r>
            <a:br>
              <a:rPr sz="4000"/>
            </a:b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(Araújo Barros)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just">
              <a:lnSpc>
                <a:spcPct val="9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Por escritura de 13/09/1984, outorgada perante o Notário Privativo da Câmara Municipal de Macedo de Cavaleiros, E e esposa A (primeiros outorgantes) declararam vender à Câmara Municipal de Macedo de Cavaleiros o prédio rústico X, pelo preço de quatro milhões quatrocentos e sessenta e cinco mil escudos, tendo a Câmara Municipal de Macedo de Cavaleiros declarado aceita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6666"/>
                </a:solidFill>
                <a:latin typeface="Trebuchet MS"/>
              </a:rPr>
              <a:t>Fim do Negócio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Consta na aludida escritura que a Câmara Municipal de Macedo de Cavaleiros declarou que o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prédio referido 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se destina à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realização das feiras mensa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6666"/>
                </a:solidFill>
                <a:latin typeface="Trebuchet MS"/>
              </a:rPr>
              <a:t>Condição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Ficou acordado que,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se outro destino for dado ao citado terreno, terão os primeiros outorgantes o direito de voltar à sua posse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, mediante a devolução da importância agora recebida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6666"/>
                </a:solidFill>
                <a:latin typeface="Trebuchet MS"/>
              </a:rPr>
              <a:t>Verificação da condição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Por deliberação camarária de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21/08/1995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, a Câmara Municipal adquirente decidiu transferir a realização da feira mensal para o Parque Municipal de Exposições e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afectou os terrenos a um complexo de piscinas municipais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666666"/>
                </a:solidFill>
                <a:latin typeface="Trebuchet MS"/>
              </a:rPr>
              <a:t>Efeitos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Em suma: o que da escritura consta é que o prédio vendido sob condição resolutiva se destina à realização das feiras mensai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O recorrente utilizou-o, sem posterior acordo com os autores, para nele instalar as piscinas municipais (que, em parte, já edificou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Desta forma, mostra-se </a:t>
            </a:r>
            <a:r>
              <a:rPr b="1" lang="pt-PT" sz="2800" spc="-1" strike="noStrike">
                <a:solidFill>
                  <a:srgbClr val="000000"/>
                </a:solidFill>
                <a:latin typeface="Georgia"/>
              </a:rPr>
              <a:t>verificada a condição resolutiva</a:t>
            </a: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, o que dá aos autores o direito de retornarem à propriedade do referido prédio.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CaixaDeTexto 1"/>
          <p:cNvSpPr/>
          <p:nvPr/>
        </p:nvSpPr>
        <p:spPr>
          <a:xfrm>
            <a:off x="357120" y="928800"/>
            <a:ext cx="7929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Diagrama 4" descr=""/>
          <p:cNvPicPr/>
          <p:nvPr/>
        </p:nvPicPr>
        <p:blipFill>
          <a:blip r:embed="rId1"/>
          <a:stretch/>
        </p:blipFill>
        <p:spPr>
          <a:xfrm>
            <a:off x="274680" y="920880"/>
            <a:ext cx="86677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Tipo neg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iagrama 4" descr=""/>
          <p:cNvPicPr/>
          <p:nvPr/>
        </p:nvPicPr>
        <p:blipFill>
          <a:blip r:embed="rId1"/>
          <a:stretch/>
        </p:blipFill>
        <p:spPr>
          <a:xfrm>
            <a:off x="847800" y="1639800"/>
            <a:ext cx="6222960" cy="3938760"/>
          </a:xfrm>
          <a:prstGeom prst="rect">
            <a:avLst/>
          </a:prstGeom>
          <a:ln w="0">
            <a:noFill/>
          </a:ln>
        </p:spPr>
      </p:pic>
      <p:sp>
        <p:nvSpPr>
          <p:cNvPr id="229" name="CaixaDeTexto 5"/>
          <p:cNvSpPr/>
          <p:nvPr/>
        </p:nvSpPr>
        <p:spPr>
          <a:xfrm>
            <a:off x="785880" y="53578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449e"/>
                </a:solidFill>
                <a:latin typeface="Arial"/>
              </a:rPr>
              <a:t>Tip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– modelos de negócios jurídicos, paradigmas para a disciplina negocial, apresentam unidade e exprimem um equilíbrio entendido pelo legislador como j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Diagrama 4" descr=""/>
          <p:cNvPicPr/>
          <p:nvPr/>
        </p:nvPicPr>
        <p:blipFill>
          <a:blip r:embed="rId1"/>
          <a:stretch/>
        </p:blipFill>
        <p:spPr>
          <a:xfrm>
            <a:off x="1633680" y="2567160"/>
            <a:ext cx="6126120" cy="3949560"/>
          </a:xfrm>
          <a:prstGeom prst="rect">
            <a:avLst/>
          </a:prstGeom>
          <a:ln w="0">
            <a:noFill/>
          </a:ln>
        </p:spPr>
      </p:pic>
      <p:sp>
        <p:nvSpPr>
          <p:cNvPr id="233" name="CaixaDeTexto 6"/>
          <p:cNvSpPr/>
          <p:nvPr/>
        </p:nvSpPr>
        <p:spPr>
          <a:xfrm>
            <a:off x="6858000" y="2071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401.º, n.º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iagrama 4" descr=""/>
          <p:cNvPicPr/>
          <p:nvPr/>
        </p:nvPicPr>
        <p:blipFill>
          <a:blip r:embed="rId1"/>
          <a:stretch/>
        </p:blipFill>
        <p:spPr>
          <a:xfrm>
            <a:off x="1633680" y="2567160"/>
            <a:ext cx="6126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CaixaDeTexto 6"/>
          <p:cNvSpPr/>
          <p:nvPr/>
        </p:nvSpPr>
        <p:spPr>
          <a:xfrm>
            <a:off x="7143840" y="20718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iagrama 4" descr=""/>
          <p:cNvPicPr/>
          <p:nvPr/>
        </p:nvPicPr>
        <p:blipFill>
          <a:blip r:embed="rId1"/>
          <a:stretch/>
        </p:blipFill>
        <p:spPr>
          <a:xfrm>
            <a:off x="1633680" y="2567160"/>
            <a:ext cx="6126120" cy="393696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6"/>
          <p:cNvSpPr/>
          <p:nvPr/>
        </p:nvSpPr>
        <p:spPr>
          <a:xfrm>
            <a:off x="7143840" y="207180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94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a 4" descr=""/>
          <p:cNvPicPr/>
          <p:nvPr/>
        </p:nvPicPr>
        <p:blipFill>
          <a:blip r:embed="rId1"/>
          <a:stretch/>
        </p:blipFill>
        <p:spPr>
          <a:xfrm>
            <a:off x="1633680" y="2567160"/>
            <a:ext cx="6314760" cy="4651200"/>
          </a:xfrm>
          <a:prstGeom prst="rect">
            <a:avLst/>
          </a:prstGeom>
          <a:ln w="0">
            <a:noFill/>
          </a:ln>
        </p:spPr>
      </p:pic>
      <p:sp>
        <p:nvSpPr>
          <p:cNvPr id="245" name="CaixaDeTexto 6"/>
          <p:cNvSpPr/>
          <p:nvPr/>
        </p:nvSpPr>
        <p:spPr>
          <a:xfrm>
            <a:off x="7143840" y="20718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CaixaDeTexto 2"/>
          <p:cNvSpPr/>
          <p:nvPr/>
        </p:nvSpPr>
        <p:spPr>
          <a:xfrm>
            <a:off x="285840" y="785880"/>
            <a:ext cx="8286840" cy="1099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Georgia"/>
              </a:rPr>
              <a:t>Requisitos do negóci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ixaDeTexto 3"/>
          <p:cNvSpPr/>
          <p:nvPr/>
        </p:nvSpPr>
        <p:spPr>
          <a:xfrm>
            <a:off x="285840" y="23572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iagrama 4" descr=""/>
          <p:cNvPicPr/>
          <p:nvPr/>
        </p:nvPicPr>
        <p:blipFill>
          <a:blip r:embed="rId1"/>
          <a:stretch/>
        </p:blipFill>
        <p:spPr>
          <a:xfrm>
            <a:off x="1633680" y="2567160"/>
            <a:ext cx="6387840" cy="3936960"/>
          </a:xfrm>
          <a:prstGeom prst="rect">
            <a:avLst/>
          </a:prstGeom>
          <a:ln w="0">
            <a:noFill/>
          </a:ln>
        </p:spPr>
      </p:pic>
      <p:sp>
        <p:nvSpPr>
          <p:cNvPr id="249" name="CaixaDeTexto 6"/>
          <p:cNvSpPr/>
          <p:nvPr/>
        </p:nvSpPr>
        <p:spPr>
          <a:xfrm>
            <a:off x="7143840" y="20718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90062"/>
                </a:solidFill>
                <a:latin typeface="Arial"/>
              </a:rPr>
              <a:t>Artigo 280.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05:22Z</dcterms:created>
  <dc:creator>Cláudia Trabuco</dc:creator>
  <dc:description/>
  <dc:language>en-US</dc:language>
  <cp:lastModifiedBy>Cláudia Trabuco</cp:lastModifiedBy>
  <dcterms:modified xsi:type="dcterms:W3CDTF">2009-11-12T00:42:11Z</dcterms:modified>
  <cp:revision>71</cp:revision>
  <dc:subject/>
  <dc:title>DIREITO DE MARCAS</dc:title>
</cp:coreProperties>
</file>