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8FA-7772-4A78-BDD4-D79B13E7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05E-A1CB-4C99-A263-C6B6AE41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8D4D-59F2-4A5B-BDDF-2964DE42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C378-826F-4B11-885A-48641453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B25-5D29-4CBE-B89E-03989EB8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A2FE-5855-4BD8-86F1-373233FF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5138-B693-41BF-B553-E364455C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8D05-B391-46EE-B9CD-71B4DC92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4FF-000C-4C13-AB12-8B6730D4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5AE-55D8-4BAB-AB17-6204769A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CEAC-47F1-47ED-AFEF-E95EE2CF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A475-02F7-47F9-BA92-74A1CC66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F35F-5D7E-4502-8F7D-34905074F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ito Comer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ito Privado Espe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dade do Direito Priva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História de uma ide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Viv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ódigo Civil Italiano de 19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ivro Quinto “Do Trabalh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Direito do traba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Direito das sociedades comer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ódigo Civil Suíço de 19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ódigo Civil do Brasil de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dades da Idade Mé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Direito comercial como um direito especial dos comerciant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direito de uma classe profi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ras especiais diferentes do direito civil para institutos anti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os instit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volução Frances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Direito comercial como o direito dos actos de comér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direito para todos os que pratiquem actos de comér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é o direito de uma classe profi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tribunais de comér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ódigo Alem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Direito dos comerci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Código de Comércio Portuguê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digo de 18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digo Veiga Beir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tigo 1.º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o da lei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i comercial rege os actos de comércio sejam ou não comerciantes as pessoas que neles intervé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tigo 2.º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os de comér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ão considerados actos de comércio todos aqueles que se acharem especialmente regulados neste Códig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, além del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s os contratos e obrigações dos comerciantes, que não forem de natureza exclusivamente civil, se o contrário do próprio acto não resul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ito Comercial/Direito  Civ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tigo 3.º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ério de integ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as questões sobre direitos e obrigações comerciais não puderem ser resolvidas, nem pelo texto da lei comercial, nem pelo seu espírito, nem pelos casos análogos nela prevenidos, serão decididas pelo direito ci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novas concep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os de m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isa</cp:lastModifiedBy>
  <dcterms:modified xsi:type="dcterms:W3CDTF">2007-09-19T21:20:1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