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039-9E75-4834-AB11-80DC92F8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A72-9D2C-4AF1-9A7B-6DD3B07E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401-ACC9-4171-9828-13F0B5B1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BAC-8575-4A56-8122-EE5ABC57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0A6-5D9A-4A77-A760-8A574CED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E0A-4DE7-4002-8E77-6F63B706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147-BBF9-4D00-86FB-7226161B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B75-1B10-4F38-BCFE-E464A421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397-C522-4B34-8FCA-BD8744D3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D72-E319-46A5-8537-F23DA7B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9A9-1362-4D7A-A382-DBA0C760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686-6138-4975-B38B-F3767DB3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CFE0-5B64-4C4C-AAE4-B293E5BA7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os do Dir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ito público e direito pri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Ro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lp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direito público é aquele que respeita à república romana; o direito privado é o que importa à utilidade dos particular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 Diogo Freitas o Amaral, Manual de Introdução ao Direito, I, p.2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trina do Intere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trina dos suj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un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trina da qualidade Jurídica dos suje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poder de autor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sujeição e a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competência e a lib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a</cp:lastModifiedBy>
  <dcterms:modified xsi:type="dcterms:W3CDTF">2007-09-19T21:28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