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4CFA-F4FF-4EF2-BEAF-C143ED3D086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D93B-B692-4B53-AA5E-EE6DF6C859AB}" type="slidenum">
              <a:rPr b="0" lang="pt-PT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EE8B-F153-4F1D-A0E9-F967342D1365}" type="slidenum">
              <a:rPr b="0" lang="pt-PT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ED1A-34E8-4D89-AD38-2B2A4EF0F0E7}" type="slidenum">
              <a:rPr b="0" lang="pt-PT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B8B0-50C3-46C6-AAEF-DD2A2C2AFEEB}" type="slidenum">
              <a:rPr b="0" lang="pt-PT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1711-A886-42AD-9180-9DB1FBF74E84}" type="slidenum">
              <a:rPr b="0" lang="pt-PT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EE14-931C-46D5-AB3B-B2AE50D0437F}" type="slidenum">
              <a:rPr b="0" lang="pt-PT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B370-069B-4B3D-8A29-387F8B9ADAEC}" type="slidenum">
              <a:rPr b="0" lang="pt-PT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4D59-E314-4422-8466-9B2B9A8AB45F}" type="slidenum">
              <a:rPr b="0" lang="pt-PT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A691-1DBE-4311-BBF2-00690A036E58}" type="slidenum">
              <a:rPr b="0" lang="pt-PT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68A-2A50-4693-8CFF-9AC3B7B5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799-6F9B-4607-817A-207D09A5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F2C-22CA-436E-B6F9-DCB5D9A6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4BA-A8BC-4CE4-8856-E397CD99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37C2-D3A1-4B3B-81F0-93B6B2CF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B4D6-B5CF-4A75-BF07-5F4657DB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ACC6-42B6-458A-9645-AAA6E1DD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1E09-8FDA-4368-9AAC-CA9B5EE6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926F-BC63-4155-9FEE-12F6AC3C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6501-34C4-4838-B007-4BF7F749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FF4E-CB85-498B-8E7F-87357FBD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594-7915-4ECA-993E-6EF3EF2F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1C6F-546E-4779-A548-2C553ED1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6BD3-FD2E-478C-9B2A-04AF160A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770A-C90D-48C9-93DF-AFD59F8C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964C-16CC-4980-B845-311C21E7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EA3C-73E7-4B68-8D54-4A24D11F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ED41-9548-4B9D-8F5C-08429529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4EE-8974-4BBB-B061-1722AEC2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9079-94BE-4B7A-BB24-F7D10910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833-8D08-484C-993C-A96D22C0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F4A6-B414-4370-A175-C41949BE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CBD-4B79-4E2A-AC1F-BA08FE50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8DF4-9C14-4D98-A014-597BDFBA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27A8-B05B-4CB2-A5AF-B5B1ADC5A22A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AA47-A46F-4BE1-AAF6-BC9E87D66F96}" type="slidenum">
              <a:rPr b="0" lang="pt-PT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84C0-4C1B-4DDA-AAA7-99ECDFB02B19}" type="slidenum">
              <a:rPr b="0" lang="pt-PT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8080"/>
                </a:solidFill>
                <a:latin typeface="Tahoma"/>
              </a:rPr>
              <a:t>TGDP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42960" y="3499920"/>
            <a:ext cx="8143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66"/>
                </a:solidFill>
                <a:latin typeface="Tahoma"/>
              </a:rPr>
              <a:t>Facto, acto e negócio jurídic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9A59-6DE6-460C-A572-3113CDB25341}" type="slidenum">
              <a:rPr b="0" lang="pt-PT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AUTONOMIA PRIVAD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Garamond"/>
                <a:ea typeface="Times New Roman"/>
              </a:rPr>
              <a:t>Princípio fundamental no D. Privad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Garamond"/>
                <a:ea typeface="Times New Roman"/>
              </a:rPr>
              <a:t>(insuficiência do Direito para prever todos os efeitos concreto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Garamond"/>
                <a:ea typeface="Times New Roman"/>
              </a:rPr>
              <a:t>Veículo prioritários de realização: negócio jurídico e direito subjectiv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1143000" y="3048120"/>
            <a:ext cx="0" cy="3045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CB95-51B6-499E-BB78-33029E230AF5}" type="slidenum">
              <a:rPr b="0" lang="pt-PT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8080"/>
                </a:solidFill>
                <a:latin typeface="Garamond"/>
              </a:rPr>
              <a:t>AUTONOMIA PRIVADA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Garamond"/>
                <a:ea typeface="Times New Roman"/>
              </a:rPr>
              <a:t>Liberdade para a prática de factos jurídicos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8080"/>
                </a:solidFill>
                <a:latin typeface="Garamond"/>
              </a:rPr>
              <a:t> </a:t>
            </a:r>
            <a:r>
              <a:rPr b="1" lang="pt-PT" sz="2600" spc="-1" strike="noStrike">
                <a:solidFill>
                  <a:srgbClr val="008080"/>
                </a:solidFill>
                <a:latin typeface="Garamond"/>
              </a:rPr>
              <a:t>Liberdade de celebração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8080"/>
                </a:solidFill>
                <a:latin typeface="Garamond"/>
              </a:rPr>
              <a:t> </a:t>
            </a:r>
            <a:r>
              <a:rPr b="1" lang="pt-PT" sz="2600" spc="-1" strike="noStrike">
                <a:solidFill>
                  <a:srgbClr val="008080"/>
                </a:solidFill>
                <a:latin typeface="Garamond"/>
              </a:rPr>
              <a:t>Liberdade de estipulação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Garamond"/>
                <a:ea typeface="Times New Roman"/>
              </a:rPr>
              <a:t>Art. 405.º do C.C. 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1012-7277-428A-BFEB-F05713D7F1BE}" type="slidenum">
              <a:rPr b="0" lang="pt-PT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8080"/>
                </a:solidFill>
                <a:latin typeface="Garamond"/>
              </a:rPr>
              <a:t>AUTONOMIA PRIVADA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Garamond"/>
                <a:ea typeface="Times New Roman"/>
              </a:rPr>
              <a:t>Restrições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8080"/>
                </a:solidFill>
                <a:latin typeface="Garamond"/>
              </a:rPr>
              <a:t> </a:t>
            </a:r>
            <a:r>
              <a:rPr b="1" lang="pt-PT" sz="2600" spc="-1" strike="noStrike">
                <a:solidFill>
                  <a:srgbClr val="008080"/>
                </a:solidFill>
                <a:latin typeface="Garamond"/>
              </a:rPr>
              <a:t>à liberdade de celebração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1" marL="35964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8080"/>
                </a:solidFill>
                <a:latin typeface="Garamond"/>
              </a:rPr>
              <a:t> </a:t>
            </a:r>
            <a:r>
              <a:rPr b="1" lang="pt-PT" sz="2200" spc="-1" strike="noStrike">
                <a:solidFill>
                  <a:srgbClr val="000066"/>
                </a:solidFill>
                <a:latin typeface="Garamond"/>
              </a:rPr>
              <a:t>dever jurídico de contratar (ex.: seguro automóvel)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35964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Garamond"/>
              </a:rPr>
              <a:t> </a:t>
            </a:r>
            <a:r>
              <a:rPr b="1" lang="pt-PT" sz="2200" spc="-1" strike="noStrike">
                <a:solidFill>
                  <a:srgbClr val="000066"/>
                </a:solidFill>
                <a:latin typeface="Garamond"/>
              </a:rPr>
              <a:t>proibições de contratar com determinadas pessoas. (ex.: 877.º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8080"/>
                </a:solidFill>
                <a:latin typeface="Garamond"/>
              </a:rPr>
              <a:t> </a:t>
            </a:r>
            <a:r>
              <a:rPr b="1" lang="pt-PT" sz="2600" spc="-1" strike="noStrike">
                <a:solidFill>
                  <a:srgbClr val="008080"/>
                </a:solidFill>
                <a:latin typeface="Garamond"/>
              </a:rPr>
              <a:t>à liberdade de estipulação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1" marL="35964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Garamond"/>
              </a:rPr>
              <a:t> </a:t>
            </a:r>
            <a:r>
              <a:rPr b="1" lang="pt-PT" sz="2200" spc="-1" strike="noStrike">
                <a:solidFill>
                  <a:srgbClr val="000066"/>
                </a:solidFill>
                <a:latin typeface="Garamond"/>
              </a:rPr>
              <a:t>requisitos do art. 280.º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35964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Garamond"/>
              </a:rPr>
              <a:t> </a:t>
            </a:r>
            <a:r>
              <a:rPr b="1" lang="pt-PT" sz="2200" spc="-1" strike="noStrike">
                <a:solidFill>
                  <a:srgbClr val="000066"/>
                </a:solidFill>
                <a:latin typeface="Garamond"/>
              </a:rPr>
              <a:t>dever de actuação de boa fé (cfr. 762.º, n.º 2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3596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Garamond"/>
                <a:ea typeface="Times New Roman"/>
              </a:rPr>
              <a:t>. 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3AD0-818C-4514-B1D6-9E0A11FF9F0F}" type="slidenum">
              <a:rPr b="0" lang="pt-PT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3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FACTOS JURÍDICO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33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pt-PT" sz="1800" spc="-1" strike="noStrike">
                <a:solidFill>
                  <a:srgbClr val="008080"/>
                </a:solidFill>
                <a:latin typeface="Garamond"/>
              </a:rPr>
              <a:t>(ex.:</a:t>
            </a:r>
            <a:r>
              <a:rPr b="1" lang="pt-PT" sz="1800" spc="-1" strike="noStrike">
                <a:solidFill>
                  <a:srgbClr val="000066"/>
                </a:solidFill>
                <a:latin typeface="Garamond"/>
                <a:ea typeface="Times New Roman"/>
              </a:rPr>
              <a:t>Mota Pinto</a:t>
            </a:r>
            <a:r>
              <a:rPr b="1" lang="pt-PT" sz="1800" spc="-1" strike="noStrike">
                <a:solidFill>
                  <a:srgbClr val="00808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603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Garamond"/>
              </a:rPr>
              <a:t>     </a:t>
            </a:r>
            <a:r>
              <a:rPr b="1" lang="pt-PT" sz="2400" spc="-1" strike="noStrike">
                <a:solidFill>
                  <a:srgbClr val="000066"/>
                </a:solidFill>
                <a:latin typeface="Garamond"/>
              </a:rPr>
              <a:t>Voluntários</a:t>
            </a:r>
            <a:r>
              <a:rPr b="1" lang="pt-PT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0066"/>
                </a:solidFill>
                <a:latin typeface="Garamond"/>
              </a:rPr>
              <a:t>Involuntário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   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Actos jurídicos </a:t>
            </a:r>
            <a:r>
              <a:rPr b="1" lang="pt-PT" sz="1400" spc="-1" strike="noStrike">
                <a:solidFill>
                  <a:srgbClr val="008080"/>
                </a:solidFill>
                <a:latin typeface="Garamond"/>
              </a:rPr>
              <a:t>(295.º)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    Factos naturais ou </a:t>
            </a:r>
            <a:r>
              <a:rPr b="1" i="1" lang="pt-PT" sz="2400" spc="-1" strike="noStrike">
                <a:solidFill>
                  <a:srgbClr val="008080"/>
                </a:solidFill>
                <a:latin typeface="Garamond"/>
              </a:rPr>
              <a:t>stricto        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i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i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i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i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i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i="1" lang="pt-PT" sz="2400" spc="-1" strike="noStrike">
                <a:solidFill>
                  <a:srgbClr val="008080"/>
                </a:solidFill>
                <a:latin typeface="Garamond"/>
              </a:rPr>
              <a:t>    </a:t>
            </a:r>
            <a:r>
              <a:rPr b="1" i="1" lang="pt-PT" sz="2400" spc="-1" strike="noStrike">
                <a:solidFill>
                  <a:srgbClr val="008080"/>
                </a:solidFill>
                <a:latin typeface="Garamond"/>
              </a:rPr>
              <a:t>sensu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Negócios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Actos jurídico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Jurídicos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i="1" lang="pt-PT" sz="2400" spc="-1" strike="noStrike">
                <a:solidFill>
                  <a:srgbClr val="008080"/>
                </a:solidFill>
                <a:latin typeface="Garamond"/>
              </a:rPr>
              <a:t>stricto sensu</a:t>
            </a:r>
            <a:r>
              <a:rPr b="1" i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i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Negócios jurídicos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Contrato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unilaterai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Line 5"/>
          <p:cNvSpPr/>
          <p:nvPr/>
        </p:nvSpPr>
        <p:spPr>
          <a:xfrm flipH="1">
            <a:off x="2666520" y="762120"/>
            <a:ext cx="1295640" cy="7617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962520" y="762120"/>
            <a:ext cx="152388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1066680" y="2590920"/>
            <a:ext cx="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1066680" y="2590920"/>
            <a:ext cx="1981440" cy="7617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000080" y="4714920"/>
            <a:ext cx="0" cy="7621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1000080" y="4714920"/>
            <a:ext cx="289548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C470-F9AE-482C-8082-F9A86D65203D}" type="slidenum">
              <a:rPr b="0" lang="pt-PT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269999"/>
                </a:solidFill>
                <a:latin typeface="Garamond"/>
                <a:ea typeface="Times New Roman"/>
              </a:rPr>
              <a:t>Manuel de Andrade, Mota Pint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Actos jurídicos em sentido estrito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	</a:t>
            </a:r>
            <a:r>
              <a:rPr b="1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Efeitos produzem-se mesmo que não tenham sido queridos ou previstos pelos seus autores (efeitos </a:t>
            </a:r>
            <a:r>
              <a:rPr b="1" i="1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ex lege</a:t>
            </a:r>
            <a:r>
              <a:rPr b="1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pt-PT" sz="2400" spc="-1" strike="noStrike">
                <a:solidFill>
                  <a:srgbClr val="008080"/>
                </a:solidFill>
                <a:latin typeface="Garamond"/>
              </a:rPr>
              <a:t> </a:t>
            </a:r>
            <a:r>
              <a:rPr b="1" lang="pt-PT" sz="2000" spc="-1" strike="noStrike">
                <a:solidFill>
                  <a:srgbClr val="008080"/>
                </a:solidFill>
                <a:latin typeface="Garamond"/>
              </a:rPr>
              <a:t>Actos jurídicos </a:t>
            </a:r>
            <a:r>
              <a:rPr b="1" lang="pt-PT" sz="20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pt-PT" sz="2000" spc="-1" strike="noStrike">
                <a:solidFill>
                  <a:srgbClr val="000066"/>
                </a:solidFill>
                <a:latin typeface="Garamond"/>
              </a:rPr>
              <a:t>   quase-negócios jurídicos(actos quase negociai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98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pt-PT" sz="20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pt-PT" sz="20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pt-PT" sz="20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pt-PT" sz="2000" spc="-1" strike="noStrike">
                <a:solidFill>
                  <a:srgbClr val="000066"/>
                </a:solidFill>
                <a:latin typeface="Garamond"/>
              </a:rPr>
              <a:t>    </a:t>
            </a:r>
            <a:r>
              <a:rPr b="1" lang="pt-PT" sz="2000" spc="-1" strike="noStrike">
                <a:solidFill>
                  <a:srgbClr val="000066"/>
                </a:solidFill>
                <a:latin typeface="Garamond"/>
              </a:rPr>
              <a:t>operações jurídicas (actos materiais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984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Negócios jurídicos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	</a:t>
            </a:r>
            <a:r>
              <a:rPr b="1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uma ou mais declarações de vontade a que o direito atribui efeitos jurídicos concordantes com o conteúdo da vontade das partes (efeitos </a:t>
            </a:r>
            <a:r>
              <a:rPr b="1" i="1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ex voluntate</a:t>
            </a:r>
            <a:r>
              <a:rPr b="1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	</a:t>
            </a:r>
            <a:r>
              <a:rPr b="1" lang="pt-PT" sz="2400" spc="-1" strike="noStrike">
                <a:solidFill>
                  <a:srgbClr val="269999"/>
                </a:solidFill>
                <a:latin typeface="Garamond"/>
                <a:ea typeface="Times New Roman"/>
              </a:rPr>
              <a:t>Crítica</a:t>
            </a:r>
            <a:r>
              <a:rPr b="1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: nenhuma vontade, por esclarecida que seja, pode prever e querer todos os fins protegidos pelo Direito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2857680" y="3071880"/>
            <a:ext cx="4572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2857680" y="3071880"/>
            <a:ext cx="53316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CE1C-44B9-4F75-936A-2EF979763EAC}" type="slidenum">
              <a:rPr b="0" lang="pt-PT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269999"/>
                </a:solidFill>
                <a:latin typeface="Garamond"/>
                <a:ea typeface="Times New Roman"/>
              </a:rPr>
              <a:t>Menezes Cordeiro </a:t>
            </a:r>
            <a:r>
              <a:rPr b="1" lang="pt-PT" sz="2400" spc="-1" strike="noStrike">
                <a:solidFill>
                  <a:srgbClr val="000066"/>
                </a:solidFill>
                <a:latin typeface="Garamond"/>
                <a:ea typeface="Times New Roman"/>
              </a:rPr>
              <a:t>distingue nos actos jurídic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Actos jurídicos em sentido estrito – liberdade de celebração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	</a:t>
            </a:r>
            <a:r>
              <a:rPr b="1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O autor do acto jurídico pratica-o voluntariamente mas não tem o poder de determinar as suas consequências jurídicas (pré-determinadas pelo Direito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Negócios jurídicos – liberdade de celebração e liberdade de estipulação (quanto às opções fundamentais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F33A-0DF3-4F20-8E9F-1B7AD22D6A6A}" type="slidenum">
              <a:rPr b="0" lang="pt-PT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Negócios jurídicos unilaterais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8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Uma só declaração de vontade ou várias declarações paralelas (M. Pinto, M. Andrade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8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Actos da autoria de apenas uma parte (uma ou mais pessoas com legitimação/interesse comum) e que a vinculam independentemente da concordância ou do consenso de uma outra parte (Pais de Vasconcelos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8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Os efeitos não diferenciam as pessoas  (M. Cordeiro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269999"/>
                </a:solidFill>
                <a:latin typeface="Garamond"/>
                <a:ea typeface="Times New Roman"/>
              </a:rPr>
              <a:t>testamento – 2179.º, n.º 1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Contratos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8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Duas ou mais declarações de vontade de conteúdo oposto mas convergente (M. Pinto, M. Andrade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8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Acordos ou convenções celebrados entre diferentes partes (P. Vasconcelos), vinculação emerge do acordo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8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66"/>
                </a:solidFill>
                <a:latin typeface="Garamond"/>
                <a:ea typeface="Times New Roman"/>
              </a:rPr>
              <a:t>Efeitos diferenciam duas ou mais pessoas (M. Cordeiro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269999"/>
                </a:solidFill>
                <a:latin typeface="Garamond"/>
                <a:ea typeface="Times New Roman"/>
              </a:rPr>
              <a:t>compra e venda – 874.º; doação – 940.º; casamento – 1577.º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016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Marcador de Posição do Número do Diapositivo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9514-037D-456C-8BC7-C8782AFA5817}" type="slidenum">
              <a:rPr b="0" lang="pt-PT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Garamond"/>
                <a:ea typeface="Times New Roman"/>
              </a:rPr>
              <a:t>Críticas à doutrina voluntarista  e psicológica (contratos)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Garamond"/>
                <a:ea typeface="Times New Roman"/>
              </a:rPr>
              <a:t>Acordos só vinculam juridicamente quando sejam veiculados por comportamento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Garamond"/>
                <a:ea typeface="Times New Roman"/>
              </a:rPr>
              <a:t>Vontade psicológica não generalizável – declarações negociais das pessoas jurídica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Garamond"/>
                <a:ea typeface="Times New Roman"/>
              </a:rPr>
              <a:t>Contrato forma-se através de declarações concordantes (actos de linguagem) – interpretação do resultado concordante das declarações através das quais o contrato se formou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Garamond"/>
                <a:ea typeface="Times New Roman"/>
              </a:rPr>
              <a:t>Contrato – acordo formado por duas ou mais declarações que produzem efeitos jurídicos conformes ao significado do acordo obtido (Carlos Ferreira de Almeida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052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6:02:37Z</dcterms:created>
  <dc:creator>Cláudia Trabuco</dc:creator>
  <dc:description/>
  <dc:language>en-US</dc:language>
  <cp:lastModifiedBy>Cláudia Trabuco</cp:lastModifiedBy>
  <dcterms:modified xsi:type="dcterms:W3CDTF">2009-10-25T15:36:38Z</dcterms:modified>
  <cp:revision>71</cp:revision>
  <dc:subject/>
  <dc:title>Interpretação e integração</dc:title>
</cp:coreProperties>
</file>