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4DCEA-C2B4-42B0-83B1-BE233A68E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B4499-F00A-4788-8B43-24E6C45C1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800BE-8801-4246-9E48-E6FE200BF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021DE-6C3E-44BF-9B0A-986E08B62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5A1AE-18FA-4B08-82CB-1BF05DB8B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C50E5-70E9-4A3B-B2E9-86D8B12BD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4F7AE-AE5D-454C-BB79-94DC3DA37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214FB-2F33-4FE8-8E45-5F85471F3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22270-51DD-4237-AFF6-C8287CB80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88712-83B2-467A-9FB0-B1D7A0FC5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F7F10-6EB1-46E4-A6AE-2670400BE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A088F-5F23-4AD5-A5C7-4A1FD84DD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DE657-3E3F-4E66-8C41-A0293D127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8276F-39B6-489C-8AB1-4CF700F35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97D07-B830-4118-8D19-F855332C0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2FA49-A54B-4380-B02F-5635402EE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C64EB-1708-4D6B-BC83-4B3EB6B08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831DF0-9F4E-41E7-9B96-B6CB1EF20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FB0424-0EE9-42BB-A09F-735FBFFC9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790BC9-1969-4BD7-A140-154DC8C1F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9FAB92-0DD4-4242-9A04-9B5E0B7B9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BB751F-A49F-4C9B-AB5C-9D750CFBA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718AD-A3BE-4592-BAD9-5E9A2D205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12AACD-B49C-4147-8A54-9F11CCA93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EB5682-5F0A-4D46-A5C9-A278F86E6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59CBB7-F202-471B-B0C9-D0A0D78C1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825168-87AB-40E8-8FCC-9B1C7EA1F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7DE7B2-655E-4E50-BD16-1ACE69C82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79D87D-B973-43C8-8E1B-BCFE16C80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8D0A42-EB5C-45F0-AEDF-27CD91D96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F5348C-B061-44ED-965B-2CA844DE1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A0659A-1434-4BF4-9AD2-435FF6904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9530A0-DB77-470C-A696-DB904AEEA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D09D4-2697-4289-B198-44582CAC0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2E583B-2207-46A6-A004-4914FFC3D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346D43-34B8-4536-9D26-DB722B096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677BE9-BE8D-4A72-A3BF-2D5AF65E9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913F53-BDA5-482F-B0FA-9F16D2F58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76CBA9-9AA0-497E-8B53-05F9C3EED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BA7460-E08C-4338-95A9-4099BD86E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FC598C-2F8F-45B7-8536-EED1A46E4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0C3E2E-FD12-4A1B-BF46-E710F17D6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F57262-F6C1-48A1-A803-15896E68E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86CD2-A2AD-4A82-9AFD-DDFC0884B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FF056-4293-4EC3-BFF4-F07B02D40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0789A-6121-4E2A-9B75-96634F376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572C6-5B2F-450D-AD3A-2669AAFA4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F4629-47FC-407F-A63C-4099B2B3E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orma livre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Forma livre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60209-7FA9-4A73-A0CC-75CBBD4F6EBE}" type="slidenum">
              <a:rPr b="0" lang="pt-PT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upo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orma livre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orma livre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Forma livre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orma livre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orma livre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Forma livre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Grupo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orma livre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orma livre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Forma livre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Forma livre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2AA61-25C4-48D2-9902-A38B2B9AEDCA}" type="slidenum">
              <a:rPr b="0" lang="pt-PT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orma livre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Forma livre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Grupo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orma livre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orma livre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Forma livre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Forma livre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D65D2-B8BD-4B10-8D3D-D7E88153D263}" type="slidenum">
              <a:rPr b="0" lang="pt-PT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Cortar e Arredondar Rectângulo de Canto Simples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Triângulo rectângulo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Forma livre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Forma livre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DEF3B-1E9A-4AF8-9350-627563059009}" type="slidenum">
              <a:rPr b="0" lang="pt-PT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ítulo 1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7864560" cy="190188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5000" spc="-1" strike="noStrike">
                <a:solidFill>
                  <a:srgbClr val="04617b"/>
                </a:solidFill>
                <a:latin typeface="Calibri"/>
              </a:rPr>
              <a:t>Correspondênci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pt-PT" sz="2600" spc="-1" strike="noStrike">
                <a:solidFill>
                  <a:srgbClr val="000000"/>
                </a:solidFill>
                <a:latin typeface="Constantia"/>
              </a:rPr>
              <a:t>Ao </a:t>
            </a:r>
            <a:r>
              <a:rPr b="0" i="1" lang="pt-PT" sz="2600" spc="-1" strike="noStrike">
                <a:solidFill>
                  <a:srgbClr val="000000"/>
                </a:solidFill>
                <a:latin typeface="Constantia"/>
              </a:rPr>
              <a:t>direito potestativo </a:t>
            </a:r>
            <a:r>
              <a:rPr b="0" lang="pt-PT" sz="2600" spc="-1" strike="noStrike">
                <a:solidFill>
                  <a:srgbClr val="000000"/>
                </a:solidFill>
                <a:latin typeface="Constantia"/>
              </a:rPr>
              <a:t>corresponde a situação jurídica passiva </a:t>
            </a:r>
            <a:r>
              <a:rPr b="0" i="1" lang="pt-PT" sz="2600" spc="-1" strike="noStrike">
                <a:solidFill>
                  <a:srgbClr val="000000"/>
                </a:solidFill>
                <a:latin typeface="Constantia"/>
              </a:rPr>
              <a:t>sujeição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500" spc="-1" strike="noStrike">
                <a:solidFill>
                  <a:srgbClr val="04617b"/>
                </a:solidFill>
                <a:latin typeface="Calibri"/>
              </a:rPr>
              <a:t>Classificação dos direitos potestativos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Constantia"/>
              </a:rPr>
              <a:t>Direitos potestativos autónomos e integrado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Constantia"/>
              </a:rPr>
              <a:t>Direitos potestativos com destinatário e sem destinatári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Constantia"/>
              </a:rPr>
              <a:t>Direitos potestativos de exercício judicial ou extrajudicia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Constantia"/>
              </a:rPr>
              <a:t>Direitos potestativos constitutivos, modificativos ou extintivo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500" spc="-1" strike="noStrike">
                <a:solidFill>
                  <a:srgbClr val="04617b"/>
                </a:solidFill>
                <a:latin typeface="Calibri"/>
              </a:rPr>
              <a:t>Exemplos de direitos potestativos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onstantia"/>
              </a:rPr>
              <a:t>Direito de aceitar uma proposta contratual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pt-PT" sz="2400" spc="-1" strike="noStrike">
                <a:solidFill>
                  <a:srgbClr val="000000"/>
                </a:solidFill>
                <a:latin typeface="Constantia"/>
              </a:rPr>
              <a:t>(direito autónomo, com destinatário, de exercício extrajudicial, constitutivo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onstantia"/>
              </a:rPr>
              <a:t>Direito de preferência – artigo 414.º do Código Civil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pt-PT" sz="2400" spc="-1" strike="noStrike">
                <a:solidFill>
                  <a:srgbClr val="000000"/>
                </a:solidFill>
                <a:latin typeface="Constantia"/>
              </a:rPr>
              <a:t>(direito integrado, com destinatário, de exercício extrajudicial, constitutivo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onstantia"/>
              </a:rPr>
              <a:t>Direito de ocupação – artigo 1318.º do Código Civil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pt-PT" sz="2400" spc="-1" strike="noStrike">
                <a:solidFill>
                  <a:srgbClr val="000000"/>
                </a:solidFill>
                <a:latin typeface="Constantia"/>
              </a:rPr>
              <a:t>(direito autónomo, sem destinatário, de exercício extrajudicial, constitutivo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500" spc="-1" strike="noStrike">
                <a:solidFill>
                  <a:srgbClr val="04617b"/>
                </a:solidFill>
                <a:latin typeface="Calibri"/>
              </a:rPr>
              <a:t>Classificação dos direitos subjectivos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Constantia"/>
              </a:rPr>
              <a:t>Direitos absolutos – Direitos que impõem a todos os outros sujeitos um dever geral de respeito, sendo assim oponíveis </a:t>
            </a:r>
            <a:r>
              <a:rPr b="0" i="1" lang="pt-PT" sz="2600" spc="-1" strike="noStrike">
                <a:solidFill>
                  <a:srgbClr val="000000"/>
                </a:solidFill>
                <a:latin typeface="Constantia"/>
              </a:rPr>
              <a:t>erga omnes</a:t>
            </a:r>
            <a:r>
              <a:rPr b="0" lang="pt-PT" sz="26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Constantia"/>
              </a:rPr>
              <a:t>Direitos relativos – Direitos que só produzem efeitos entre as partes, só podendo ser exercidos perante o sujeito passivo (que tem o correspondente dever)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5000" spc="-1" strike="noStrike">
                <a:solidFill>
                  <a:srgbClr val="04617b"/>
                </a:solidFill>
                <a:latin typeface="Calibri"/>
              </a:rPr>
              <a:t>Exemplo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Constantia"/>
              </a:rPr>
              <a:t>Direitos de personalidade – Direitos absoluto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pt-PT" sz="2600" spc="-1" strike="noStrike">
                <a:solidFill>
                  <a:srgbClr val="000000"/>
                </a:solidFill>
                <a:latin typeface="Constantia"/>
              </a:rPr>
              <a:t>Direito à imagem (artigo 79.º do Código Civil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Constantia"/>
              </a:rPr>
              <a:t>Direitos reais – Direitos absoluto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pt-PT" sz="2600" spc="-1" strike="noStrike">
                <a:solidFill>
                  <a:srgbClr val="000000"/>
                </a:solidFill>
                <a:latin typeface="Constantia"/>
              </a:rPr>
              <a:t>Direito de propriedade (artigo 1302.º do Código Civil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Constantia"/>
              </a:rPr>
              <a:t>Direitos de crédito – Direitos relativo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pt-PT" sz="2800" spc="-1" strike="noStrike">
                <a:solidFill>
                  <a:srgbClr val="000000"/>
                </a:solidFill>
                <a:latin typeface="Constantia"/>
              </a:rPr>
              <a:t>Direito ao cumprimento de um contrato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5000" spc="-1" strike="noStrike">
                <a:solidFill>
                  <a:srgbClr val="04617b"/>
                </a:solidFill>
                <a:latin typeface="Calibri"/>
              </a:rPr>
              <a:t>Poder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61720" indent="-2617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 algn="just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onstantia"/>
              </a:rPr>
              <a:t>“</a:t>
            </a:r>
            <a:r>
              <a:rPr b="0" lang="pt-PT" sz="2400" spc="-1" strike="noStrike">
                <a:solidFill>
                  <a:srgbClr val="000000"/>
                </a:solidFill>
                <a:latin typeface="Constantia"/>
              </a:rPr>
              <a:t>Disponibilidade de meios para a obtenção de um fim”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pt-PT" sz="1900" spc="-1" strike="noStrike">
                <a:solidFill>
                  <a:srgbClr val="000000"/>
                </a:solidFill>
                <a:latin typeface="Constantia"/>
              </a:rPr>
              <a:t>MENEZES CORDEIRO, </a:t>
            </a:r>
            <a:r>
              <a:rPr b="0" i="1" lang="pt-PT" sz="1900" spc="-1" strike="noStrike">
                <a:solidFill>
                  <a:srgbClr val="000000"/>
                </a:solidFill>
                <a:latin typeface="Constantia"/>
              </a:rPr>
              <a:t>Tratado de Direito Civil Português</a:t>
            </a:r>
            <a:r>
              <a:rPr b="0" lang="pt-PT" sz="1900" spc="-1" strike="noStrike">
                <a:solidFill>
                  <a:srgbClr val="000000"/>
                </a:solidFill>
                <a:latin typeface="Constantia"/>
              </a:rPr>
              <a:t>, Vol. I, Tomo I, 3.ª edição, Almedina, Coimbra, 2005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 algn="just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onstantia"/>
              </a:rPr>
              <a:t>Ligação ao direito subjectivo, como seu elemento. Exercício do direito subjectivo através de poderes conferido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 algn="just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 algn="just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onstantia"/>
              </a:rPr>
              <a:t>Exemplo: Poder de vender um bem (ligado ao direito de propriedade)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5000" spc="-1" strike="noStrike">
                <a:solidFill>
                  <a:srgbClr val="04617b"/>
                </a:solidFill>
                <a:latin typeface="Calibri"/>
              </a:rPr>
              <a:t>Faculdad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53440" indent="-253440" algn="just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 algn="just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Constantia"/>
              </a:rPr>
              <a:t>Divergência na doutrina. Alguns autores equiparam poderes e faculdades, outros consideram que a faculdade é um conjunto de podere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 algn="just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 algn="just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Constantia"/>
              </a:rPr>
              <a:t>“</a:t>
            </a:r>
            <a:r>
              <a:rPr b="0" lang="pt-PT" sz="2600" spc="-1" strike="noStrike">
                <a:solidFill>
                  <a:srgbClr val="000000"/>
                </a:solidFill>
                <a:latin typeface="Constantia"/>
              </a:rPr>
              <a:t>Conjunto de poderes ou de outras posições activas”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pt-PT" sz="2000" spc="-1" strike="noStrike">
                <a:solidFill>
                  <a:srgbClr val="000000"/>
                </a:solidFill>
                <a:latin typeface="Constantia"/>
              </a:rPr>
              <a:t>MENEZES CORDEIRO, </a:t>
            </a:r>
            <a:r>
              <a:rPr b="0" i="1" lang="pt-PT" sz="2000" spc="-1" strike="noStrike">
                <a:solidFill>
                  <a:srgbClr val="000000"/>
                </a:solidFill>
                <a:latin typeface="Constantia"/>
              </a:rPr>
              <a:t>Tratado de Direito Civil Português</a:t>
            </a:r>
            <a:r>
              <a:rPr b="0" lang="pt-PT" sz="2000" spc="-1" strike="noStrike">
                <a:solidFill>
                  <a:srgbClr val="000000"/>
                </a:solidFill>
                <a:latin typeface="Constantia"/>
              </a:rPr>
              <a:t>, Vol. I, Tomo I, 3.ª edição, Almedina, Coimbra, 2005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 algn="just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 algn="just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Constantia"/>
              </a:rPr>
              <a:t>Exemplo: Faculdade de construi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500" spc="-1" strike="noStrike">
                <a:solidFill>
                  <a:srgbClr val="04617b"/>
                </a:solidFill>
                <a:latin typeface="Calibri"/>
              </a:rPr>
              <a:t>Protecções reflexas ou indirectas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Constantia"/>
              </a:rPr>
              <a:t>Situação jurídica activa que corresponde a um dever que não vise a protecção directa do seu titula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Constantia"/>
              </a:rPr>
              <a:t>Exemplo: Prática comercial desleal (a lei que as proíbe protege directamente o consumidor e indirectamente os concorrentes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5000" spc="-1" strike="noStrike">
                <a:solidFill>
                  <a:srgbClr val="04617b"/>
                </a:solidFill>
                <a:latin typeface="Calibri"/>
              </a:rPr>
              <a:t>Expectativa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Constantia"/>
              </a:rPr>
              <a:t>Posição do sujeito jurídico que lhe pode permitir ser titular de um direito subjectivo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Constantia"/>
              </a:rPr>
              <a:t>Exemplo: Expectativa do titular de um direito de preferência, do adquirente sob condição ou do herdeiro legitimári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5000" spc="-1" strike="noStrike">
                <a:solidFill>
                  <a:srgbClr val="04617b"/>
                </a:solidFill>
                <a:latin typeface="Calibri"/>
              </a:rPr>
              <a:t>Poderes funcionai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67120" indent="-267120" algn="just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 algn="just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onstantia"/>
              </a:rPr>
              <a:t>Os poderes funcionais são também designados poderes-deveres ou direitos-dever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 algn="just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 algn="just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onstantia"/>
              </a:rPr>
              <a:t>Direitos de exercício obrigatório, uma vez que (também) protege o interesse de terceiro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 algn="just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 algn="just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onstantia"/>
              </a:rPr>
              <a:t>Exemplo: Poder paternal (Artigo 36.º, n.º 5, da Constituição da República Portuguesa – “Os pais têm o direito e o dever de educação e manutenção dos filhos”) – Discricionariedade no exercício do poder funcional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5000" spc="-1" strike="noStrike">
                <a:solidFill>
                  <a:srgbClr val="04617b"/>
                </a:solidFill>
                <a:latin typeface="Calibri"/>
              </a:rPr>
              <a:t>Situações jurídicas activa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Constantia"/>
              </a:rPr>
              <a:t>Direitos subjectivo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100" spc="-1" strike="noStrike">
                <a:solidFill>
                  <a:srgbClr val="000000"/>
                </a:solidFill>
                <a:latin typeface="Constantia"/>
              </a:rPr>
              <a:t>Direitos comuns;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100" spc="-1" strike="noStrike">
                <a:solidFill>
                  <a:srgbClr val="000000"/>
                </a:solidFill>
                <a:latin typeface="Constantia"/>
              </a:rPr>
              <a:t>Direitos potestativos.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Constantia"/>
              </a:rPr>
              <a:t>Poderes e faculdad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Constantia"/>
              </a:rPr>
              <a:t>Protecções reflexas ou indirecta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Constantia"/>
              </a:rPr>
              <a:t>Expectativa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Constantia"/>
              </a:rPr>
              <a:t>Poderes funcionai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Constantia"/>
              </a:rPr>
              <a:t>Excepçõ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5000" spc="-1" strike="noStrike">
                <a:solidFill>
                  <a:srgbClr val="04617b"/>
                </a:solidFill>
                <a:latin typeface="Calibri"/>
              </a:rPr>
              <a:t>Excepçõ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Constantia"/>
              </a:rPr>
              <a:t>Ligação ao dever (e a um direito de outrem). Situação jurídica em que quem tem um dever pode, licitamente, recusar-se ao seu cumprimento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Constantia"/>
              </a:rPr>
              <a:t>Exemplo: Excepção de não cumprimento do contrato (artigo 428.º do Código Civil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5000" spc="-1" strike="noStrike">
                <a:solidFill>
                  <a:srgbClr val="04617b"/>
                </a:solidFill>
                <a:latin typeface="Calibri"/>
              </a:rPr>
              <a:t>Classificação das excepçõ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Constantia"/>
              </a:rPr>
              <a:t>Excepções fortes ou fracas: impedir totalmente o exercício do direito ou apenas parcialment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Constantia"/>
              </a:rPr>
              <a:t>Excepções fortes peremptórias ou dilatórias: impedir definitivamente o exercício do direito ou apenas temporariament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5000" spc="-1" strike="noStrike">
                <a:solidFill>
                  <a:srgbClr val="04617b"/>
                </a:solidFill>
                <a:latin typeface="Calibri"/>
              </a:rPr>
              <a:t>Exemplo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lvl="2" marL="859320" indent="-23112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 algn="just">
              <a:lnSpc>
                <a:spcPct val="9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000" spc="-1" strike="noStrike">
                <a:solidFill>
                  <a:srgbClr val="000000"/>
                </a:solidFill>
                <a:latin typeface="Constantia"/>
              </a:rPr>
              <a:t>Prescrição (artigo 300.º do Código Civil) – excepção forte peremptória.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 algn="just">
              <a:lnSpc>
                <a:spcPct val="9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 algn="just">
              <a:lnSpc>
                <a:spcPct val="9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000" spc="-1" strike="noStrike">
                <a:solidFill>
                  <a:srgbClr val="000000"/>
                </a:solidFill>
                <a:latin typeface="Constantia"/>
              </a:rPr>
              <a:t>Benefício da excussão prévia (artigo 638.º, n.º 1, do Código Civil) – excepção forte dilatória.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 algn="just">
              <a:lnSpc>
                <a:spcPct val="9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 algn="just">
              <a:lnSpc>
                <a:spcPct val="9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000" spc="-1" strike="noStrike">
                <a:solidFill>
                  <a:srgbClr val="000000"/>
                </a:solidFill>
                <a:latin typeface="Constantia"/>
              </a:rPr>
              <a:t>Direito de retenção (artigo 754.º) – excepção fraca.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500" spc="-1" strike="noStrike">
                <a:solidFill>
                  <a:srgbClr val="04617b"/>
                </a:solidFill>
                <a:latin typeface="Calibri"/>
              </a:rPr>
              <a:t>Direito subjectivo / Direito objectivo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Constantia"/>
              </a:rPr>
              <a:t>Distinção clara entre Direito objectivo e direito subjectivo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Constantia"/>
              </a:rPr>
              <a:t>Direito objectivo: conjunto de norma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5000" spc="-1" strike="noStrike">
                <a:solidFill>
                  <a:srgbClr val="04617b"/>
                </a:solidFill>
                <a:latin typeface="Calibri"/>
              </a:rPr>
              <a:t>Direito subjectivo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pt-PT" sz="2600" spc="-1" strike="noStrike">
                <a:solidFill>
                  <a:srgbClr val="000000"/>
                </a:solidFill>
                <a:latin typeface="Constantia"/>
              </a:rPr>
              <a:t>Várias posições sobre a concepção do direito subjectivo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 algn="just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100" spc="-1" strike="noStrike">
                <a:solidFill>
                  <a:srgbClr val="000000"/>
                </a:solidFill>
                <a:latin typeface="Constantia"/>
              </a:rPr>
              <a:t>Poder da vontade (Savigny);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 algn="just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100" spc="-1" strike="noStrike">
                <a:solidFill>
                  <a:srgbClr val="000000"/>
                </a:solidFill>
                <a:latin typeface="Constantia"/>
              </a:rPr>
              <a:t>Interesses juridicamente protegidos (Jhering);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 algn="just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100" spc="-1" strike="noStrike">
                <a:solidFill>
                  <a:srgbClr val="000000"/>
                </a:solidFill>
                <a:latin typeface="Constantia"/>
              </a:rPr>
              <a:t>Tutela do Direito (Thon);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 algn="just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100" spc="-1" strike="noStrike">
                <a:solidFill>
                  <a:srgbClr val="000000"/>
                </a:solidFill>
                <a:latin typeface="Constantia"/>
              </a:rPr>
              <a:t>Impossibilidade de definir direito subjectivo (Larenz);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 algn="just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100" spc="-1" strike="noStrike">
                <a:solidFill>
                  <a:srgbClr val="000000"/>
                </a:solidFill>
                <a:latin typeface="Constantia"/>
              </a:rPr>
              <a:t>Norma ou produto de normas.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5000" spc="-1" strike="noStrike">
                <a:solidFill>
                  <a:srgbClr val="04617b"/>
                </a:solidFill>
                <a:latin typeface="Calibri"/>
              </a:rPr>
              <a:t>Conceito de direito subjectivo I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pt-PT" sz="2600" spc="-1" strike="noStrike">
                <a:solidFill>
                  <a:srgbClr val="000000"/>
                </a:solidFill>
                <a:latin typeface="Constantia"/>
              </a:rPr>
              <a:t>“</a:t>
            </a:r>
            <a:r>
              <a:rPr b="0" lang="pt-PT" sz="2600" spc="-1" strike="noStrike">
                <a:solidFill>
                  <a:srgbClr val="000000"/>
                </a:solidFill>
                <a:latin typeface="Constantia"/>
              </a:rPr>
              <a:t>Poder conferido pela ordem jurídica a um sujeito para tutela de um seu interesse juridicamente relevante, isto é, merecedor da tutela do direito”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pt-PT" sz="2000" spc="-1" strike="noStrike">
                <a:solidFill>
                  <a:srgbClr val="000000"/>
                </a:solidFill>
                <a:latin typeface="Constantia"/>
              </a:rPr>
              <a:t>ANA PRATA, </a:t>
            </a:r>
            <a:r>
              <a:rPr b="0" i="1" lang="pt-PT" sz="2000" spc="-1" strike="noStrike">
                <a:solidFill>
                  <a:srgbClr val="000000"/>
                </a:solidFill>
                <a:latin typeface="Constantia"/>
              </a:rPr>
              <a:t>Dicionário Jurídico</a:t>
            </a:r>
            <a:r>
              <a:rPr b="0" lang="pt-PT" sz="2000" spc="-1" strike="noStrike">
                <a:solidFill>
                  <a:srgbClr val="000000"/>
                </a:solidFill>
                <a:latin typeface="Constantia"/>
              </a:rPr>
              <a:t>, Vol. I, 5.ª edição, Almedina, Coimbra, 2008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5000" spc="-1" strike="noStrike">
                <a:solidFill>
                  <a:srgbClr val="04617b"/>
                </a:solidFill>
                <a:latin typeface="Calibri"/>
              </a:rPr>
              <a:t>Conceito de direito subjectivo II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pt-PT" sz="2600" spc="-1" strike="noStrike">
                <a:solidFill>
                  <a:srgbClr val="000000"/>
                </a:solidFill>
                <a:latin typeface="Constantia"/>
              </a:rPr>
              <a:t>“</a:t>
            </a:r>
            <a:r>
              <a:rPr b="0" lang="pt-PT" sz="2600" spc="-1" strike="noStrike">
                <a:solidFill>
                  <a:srgbClr val="000000"/>
                </a:solidFill>
                <a:latin typeface="Constantia"/>
              </a:rPr>
              <a:t>Permissão normativa específica de aproveitamento de um bem”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pt-PT" sz="2000" spc="-1" strike="noStrike">
                <a:solidFill>
                  <a:srgbClr val="000000"/>
                </a:solidFill>
                <a:latin typeface="Constantia"/>
              </a:rPr>
              <a:t>MENEZES CORDEIRO, </a:t>
            </a:r>
            <a:r>
              <a:rPr b="0" i="1" lang="pt-PT" sz="2000" spc="-1" strike="noStrike">
                <a:solidFill>
                  <a:srgbClr val="000000"/>
                </a:solidFill>
                <a:latin typeface="Constantia"/>
              </a:rPr>
              <a:t>Tratado de Direito Civil Português</a:t>
            </a:r>
            <a:r>
              <a:rPr b="0" lang="pt-PT" sz="2000" spc="-1" strike="noStrike">
                <a:solidFill>
                  <a:srgbClr val="000000"/>
                </a:solidFill>
                <a:latin typeface="Constantia"/>
              </a:rPr>
              <a:t>, Vol. I, Tomo I, 3.ª edição, Almedina, Coimbra, 2005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5000" spc="-1" strike="noStrike">
                <a:solidFill>
                  <a:srgbClr val="04617b"/>
                </a:solidFill>
                <a:latin typeface="Calibri"/>
              </a:rPr>
              <a:t>Direitos subjectivo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Constantia"/>
              </a:rPr>
              <a:t>Direitos subjectivos comun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Constantia"/>
              </a:rPr>
              <a:t>Direitos potestativo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5000" spc="-1" strike="noStrike">
                <a:solidFill>
                  <a:srgbClr val="04617b"/>
                </a:solidFill>
                <a:latin typeface="Calibri"/>
              </a:rPr>
              <a:t>Correspondênci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pt-PT" sz="2600" spc="-1" strike="noStrike">
                <a:solidFill>
                  <a:srgbClr val="000000"/>
                </a:solidFill>
                <a:latin typeface="Constantia"/>
              </a:rPr>
              <a:t>Ao </a:t>
            </a:r>
            <a:r>
              <a:rPr b="0" i="1" lang="pt-PT" sz="2600" spc="-1" strike="noStrike">
                <a:solidFill>
                  <a:srgbClr val="000000"/>
                </a:solidFill>
                <a:latin typeface="Constantia"/>
              </a:rPr>
              <a:t>direito subjectivo comum </a:t>
            </a:r>
            <a:r>
              <a:rPr b="0" lang="pt-PT" sz="2600" spc="-1" strike="noStrike">
                <a:solidFill>
                  <a:srgbClr val="000000"/>
                </a:solidFill>
                <a:latin typeface="Constantia"/>
              </a:rPr>
              <a:t>corresponde um </a:t>
            </a:r>
            <a:r>
              <a:rPr b="0" i="1" lang="pt-PT" sz="2600" spc="-1" strike="noStrike">
                <a:solidFill>
                  <a:srgbClr val="000000"/>
                </a:solidFill>
                <a:latin typeface="Constantia"/>
              </a:rPr>
              <a:t>dever jurídico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5000" spc="-1" strike="noStrike">
                <a:solidFill>
                  <a:srgbClr val="04617b"/>
                </a:solidFill>
                <a:latin typeface="Calibri"/>
              </a:rPr>
              <a:t>Direito potestativo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pt-PT" sz="2600" spc="-1" strike="noStrike">
                <a:solidFill>
                  <a:srgbClr val="000000"/>
                </a:solidFill>
                <a:latin typeface="Constantia"/>
              </a:rPr>
              <a:t>“</a:t>
            </a:r>
            <a:r>
              <a:rPr b="0" lang="pt-PT" sz="2600" spc="-1" strike="noStrike">
                <a:solidFill>
                  <a:srgbClr val="000000"/>
                </a:solidFill>
                <a:latin typeface="Constantia"/>
              </a:rPr>
              <a:t>Direito que se caracteriza por o seu titular o exercer por sua vontade exclusiva, desencadeando efeitos na esfera jurídica de outrem independentemente da vontade deste”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pt-PT" sz="2200" spc="-1" strike="noStrike">
                <a:solidFill>
                  <a:srgbClr val="000000"/>
                </a:solidFill>
                <a:latin typeface="Constantia"/>
              </a:rPr>
              <a:t>ANA PRATA, </a:t>
            </a:r>
            <a:r>
              <a:rPr b="0" i="1" lang="pt-PT" sz="2200" spc="-1" strike="noStrike">
                <a:solidFill>
                  <a:srgbClr val="000000"/>
                </a:solidFill>
                <a:latin typeface="Constantia"/>
              </a:rPr>
              <a:t>Dicionário Jurídico</a:t>
            </a:r>
            <a:r>
              <a:rPr b="0" lang="pt-PT" sz="2200" spc="-1" strike="noStrike">
                <a:solidFill>
                  <a:srgbClr val="000000"/>
                </a:solidFill>
                <a:latin typeface="Constantia"/>
              </a:rPr>
              <a:t>, Vol. I, 5.ª edição, Almedina, Coimbra, 2008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30T13:55:11Z</dcterms:created>
  <dc:creator>Jorge</dc:creator>
  <dc:description/>
  <dc:language>en-US</dc:language>
  <cp:lastModifiedBy>Cláudia Trabuco</cp:lastModifiedBy>
  <dcterms:modified xsi:type="dcterms:W3CDTF">2009-10-05T23:48:28Z</dcterms:modified>
  <cp:revision>37</cp:revision>
  <dc:subject/>
  <dc:title>Situações Jurídicas</dc:title>
</cp:coreProperties>
</file>