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0924-5EA8-41E1-AC8D-AB4A98B8C700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ireito público - normas que regulam a constituição e organização do Estado e outros entes públicos e as suas respectivas actividades, as relações desses entes públicos entre si e as relações entre entes públicos, no exercício da sua </a:t>
            </a:r>
            <a:r>
              <a:rPr b="0" i="1" lang="pt-PT" sz="1200" spc="-1" strike="noStrike">
                <a:solidFill>
                  <a:srgbClr val="000000"/>
                </a:solidFill>
                <a:latin typeface="Arial"/>
              </a:rPr>
              <a:t>publica potestas,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e os particu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4A6A-44F1-43B0-ABC9-EB9807F9AC0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3E55-BDDB-45A3-AE8B-1755B954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605-3A02-4A15-BB4F-21AD0BB5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ED3-1B05-4F37-94B0-BA8B835C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12B-5F67-4907-90FF-CCB6FC06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04E2-1D5C-4302-B3C8-1ABDAE6C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2F20-765C-4533-BA4E-0AE34ED4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0887-0D71-41AB-A0C6-1BA0E660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A2A0-0C27-4BC7-B65A-9FC7E0CA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8678-4F14-40BA-BDBD-0CFFB3A7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7D7A-1E57-45E6-BF05-4F67A570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726E-D377-48D5-8B60-98D6E48E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7766-97BB-45D2-837E-8A5A1D76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FDB8-EDE9-43B7-9064-91DB14CA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629A-2B31-48BE-AA48-AFF84745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7386-6258-4F50-A787-6C69D656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BD82-5FC7-410F-B413-EF2C73E3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2180-DEFA-4F5F-9A77-8FE39177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47E-7C70-4AD2-B886-F8AA1A16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1BC3-FE23-42A2-A4D2-11807C7D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EBB-B601-4E2B-A5E9-2B80E1D8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B807-0132-45DB-847F-EC63BC1F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18F-1410-4937-9477-BDB29807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FF5-6D05-4B6B-B636-E17DD318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CD55-F473-40D7-BC1B-2D5FEE66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f0f0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fff39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261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261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261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45F5-E6C6-45A5-908F-33BE6065C090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fff39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261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261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261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1E23-B53F-4C1A-A8E4-3E0127CCF6D7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369D-BCF9-49C5-A28B-0745F05714E8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32c16"/>
                </a:solidFill>
                <a:latin typeface="Tahoma"/>
              </a:rPr>
              <a:t>Teoria Geral do Direito Privado</a:t>
            </a:r>
            <a:endParaRPr b="0" lang="en-US" sz="40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333300"/>
                </a:solidFill>
                <a:latin typeface="Tahoma"/>
              </a:rPr>
              <a:t>O Direito Privad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333300"/>
                </a:solidFill>
                <a:latin typeface="Tahoma"/>
              </a:rPr>
              <a:t>no Ordenamento Juríd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6552-CF25-452A-A1B4-648B5B3FF347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1800"/>
              </a:spcBef>
              <a:buClr>
                <a:srgbClr val="d2611c"/>
              </a:buClr>
              <a:buSzPct val="8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50701"/>
                </a:solidFill>
                <a:latin typeface="Garamond"/>
              </a:rPr>
              <a:t>Ordem jurídica una - </a:t>
            </a:r>
            <a:r>
              <a:rPr b="0" lang="pt-PT" sz="2400" spc="-1" strike="noStrike">
                <a:solidFill>
                  <a:srgbClr val="050701"/>
                </a:solidFill>
                <a:latin typeface="Garamond"/>
              </a:rPr>
              <a:t>regulação de vários domínios sociais, demarcação de sect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1800"/>
              </a:spcBef>
              <a:buClr>
                <a:srgbClr val="d2611c"/>
              </a:buClr>
              <a:buSzPct val="8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50701"/>
                </a:solidFill>
                <a:latin typeface="Garamond"/>
              </a:rPr>
              <a:t>Ramos de Direito objectivo – </a:t>
            </a:r>
            <a:r>
              <a:rPr b="0" lang="pt-PT" sz="2400" spc="-1" strike="noStrike">
                <a:solidFill>
                  <a:srgbClr val="050701"/>
                </a:solidFill>
                <a:latin typeface="Garamond"/>
              </a:rPr>
              <a:t>corpos de regras gerais e abstractas que organizam aspectos da vida em socie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1800"/>
              </a:spcBef>
              <a:buClr>
                <a:srgbClr val="d2611c"/>
              </a:buClr>
              <a:buSzPct val="8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50701"/>
                </a:solidFill>
                <a:latin typeface="Garamond"/>
              </a:rPr>
              <a:t>Critério de delimitação dos ramos de Direito – </a:t>
            </a:r>
            <a:r>
              <a:rPr b="0" lang="pt-PT" sz="2400" spc="-1" strike="noStrike">
                <a:solidFill>
                  <a:srgbClr val="050701"/>
                </a:solidFill>
                <a:latin typeface="Garamond"/>
              </a:rPr>
              <a:t>princípios gerais e técnicas regulamentado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1800"/>
              </a:spcBef>
              <a:buClr>
                <a:srgbClr val="d2611c"/>
              </a:buClr>
              <a:buSzPct val="8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b435b"/>
                </a:solidFill>
                <a:latin typeface="Garamond"/>
              </a:rPr>
              <a:t>Ordenação dos ramos de Direito</a:t>
            </a:r>
            <a:r>
              <a:rPr b="1" lang="pt-PT" sz="2400" spc="-1" strike="noStrike">
                <a:solidFill>
                  <a:srgbClr val="050701"/>
                </a:solidFill>
                <a:latin typeface="Garamond"/>
              </a:rPr>
              <a:t> – </a:t>
            </a:r>
            <a:r>
              <a:rPr b="0" lang="pt-PT" sz="2400" spc="-1" strike="noStrike">
                <a:solidFill>
                  <a:srgbClr val="050701"/>
                </a:solidFill>
                <a:latin typeface="Garamond"/>
              </a:rPr>
              <a:t>integração em dois grandes blocos (classificação tradicion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50701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3b435b"/>
                </a:solidFill>
                <a:latin typeface="Garamond"/>
              </a:rPr>
              <a:t>DIREITO PÚBLICO</a:t>
            </a:r>
            <a:r>
              <a:rPr b="1" lang="pt-PT" sz="2400" spc="-1" strike="noStrike">
                <a:solidFill>
                  <a:srgbClr val="050701"/>
                </a:solidFill>
                <a:latin typeface="Garamond"/>
              </a:rPr>
              <a:t>   </a:t>
            </a:r>
            <a:r>
              <a:rPr b="1" lang="pt-PT" sz="2400" spc="-1" strike="noStrike">
                <a:solidFill>
                  <a:srgbClr val="050701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50701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50701"/>
                </a:solidFill>
                <a:latin typeface="Garamond"/>
              </a:rPr>
              <a:t>        </a:t>
            </a:r>
            <a:r>
              <a:rPr b="1" lang="pt-PT" sz="2400" spc="-1" strike="noStrike">
                <a:solidFill>
                  <a:srgbClr val="3b435b"/>
                </a:solidFill>
                <a:latin typeface="Garamond"/>
              </a:rPr>
              <a:t>DIREITO PRIV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94E2-DC9C-4E37-AFAB-7C11F094E9BC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862110"/>
                </a:solidFill>
                <a:latin typeface="Tahoma"/>
              </a:rPr>
              <a:t>Critérios de distinção tradicionais</a:t>
            </a:r>
            <a:endParaRPr b="0" lang="en-US" sz="2800" spc="-1" strike="noStrike">
              <a:solidFill>
                <a:srgbClr val="575f6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d261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Tahoma"/>
              </a:rPr>
              <a:t>Critério do interes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Protecção de interesses privados / protecção do interesse públic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d261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Tahoma"/>
              </a:rPr>
              <a:t>Critério da qualidade dos sujeit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Relações entre particulares / Situações em que intervém o Estado ou outro ente público</a:t>
            </a: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d261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Tahoma"/>
              </a:rPr>
              <a:t>Critério da posição dos sujeit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situações em que o Estado exerce poderes de autoridade pública (</a:t>
            </a:r>
            <a:r>
              <a:rPr b="0" i="1" lang="pt-PT" sz="2200" spc="-1" strike="noStrike">
                <a:solidFill>
                  <a:srgbClr val="000000"/>
                </a:solidFill>
                <a:latin typeface="Tahoma"/>
              </a:rPr>
              <a:t>ius imperium</a:t>
            </a: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pt-PT" sz="2200" spc="-1" strike="noStrike">
                <a:solidFill>
                  <a:srgbClr val="000000"/>
                </a:solidFill>
                <a:latin typeface="Tahoma"/>
              </a:rPr>
              <a:t>v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posição de paridade entre os sujeitos (incluindo as relações entre os particulares </a:t>
            </a:r>
            <a:r>
              <a:rPr b="1" lang="pt-PT" sz="2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 as relações destes com o Estado desde que este último não intervenha com poderes de autoridad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Marcador de Posição do Número do Diapositivo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6759-51E6-463A-A87F-C464927FB0A4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CaixaDeTexto 2"/>
          <p:cNvSpPr/>
          <p:nvPr/>
        </p:nvSpPr>
        <p:spPr>
          <a:xfrm>
            <a:off x="285840" y="500040"/>
            <a:ext cx="8572320" cy="67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d261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Tahoma"/>
              </a:rPr>
              <a:t>Outros factores de distinçã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b32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Predomínio dos parâmetros igualdade e liberdade vs.  autoridade e competênc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b32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b32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b32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Planos cultural, prático e ideológico distint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Interpenetração nos vários domínios – Subsistência da distinçã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862110"/>
                </a:solidFill>
                <a:latin typeface="Tahoma"/>
              </a:rPr>
              <a:t>Utilida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Tahoma"/>
              </a:rPr>
              <a:t>Distinção não absoluta, critérios indicativ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F76F-0DA8-43C0-9F1B-FCCEDAC3C331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d2611c"/>
                </a:solidFill>
                <a:latin typeface="Tahoma"/>
              </a:rPr>
              <a:t>DIREITO PRIV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3b435b"/>
                </a:solidFill>
                <a:latin typeface="Tahoma"/>
              </a:rPr>
              <a:t>Direito Civ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“</a:t>
            </a: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Direito Privado Comum”, “Direito regra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todas as relações de Direito Privado, excepto as que sejam objecto de um Direito Privado especial (</a:t>
            </a:r>
            <a:r>
              <a:rPr b="0" i="1" lang="pt-PT" sz="2000" spc="-1" strike="noStrike">
                <a:solidFill>
                  <a:srgbClr val="050701"/>
                </a:solidFill>
                <a:latin typeface="Tahoma"/>
              </a:rPr>
              <a:t>inclui a Teoria Geral do Direito Civi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50701"/>
                </a:solidFill>
                <a:latin typeface="Tahoma"/>
              </a:rPr>
              <a:t>(Direito Processual Civi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b435b"/>
                </a:solidFill>
                <a:latin typeface="Tahoma"/>
              </a:rPr>
              <a:t>1. Direito Internacional Priv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- Relações entre privados que transcendem as fronteiras do Estado - relações plurilocaliza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- Núcleo principal: </a:t>
            </a:r>
            <a:r>
              <a:rPr b="1" lang="pt-PT" sz="2000" spc="-1" strike="noStrike">
                <a:solidFill>
                  <a:srgbClr val="050701"/>
                </a:solidFill>
                <a:latin typeface="Tahoma"/>
              </a:rPr>
              <a:t>normas de conflitos</a:t>
            </a: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 (normas sobre normas) princípios, critérios e normas destinados a encontrar as soluções adequadas para os problemas emergentes das relações privadas de carácter inter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50701"/>
                </a:solidFill>
                <a:latin typeface="Tahoma"/>
              </a:rPr>
              <a:t>(</a:t>
            </a:r>
            <a:r>
              <a:rPr b="0" i="1" lang="pt-PT" sz="2000" spc="-1" strike="noStrike" u="sng">
                <a:solidFill>
                  <a:srgbClr val="050701"/>
                </a:solidFill>
                <a:uFillTx/>
                <a:latin typeface="Tahoma"/>
              </a:rPr>
              <a:t>Direito do Comércio Internacional</a:t>
            </a:r>
            <a:r>
              <a:rPr b="0" i="1" lang="pt-PT" sz="2000" spc="-1" strike="noStrike">
                <a:solidFill>
                  <a:srgbClr val="050701"/>
                </a:solidFill>
                <a:latin typeface="Tahoma"/>
              </a:rPr>
              <a:t> - </a:t>
            </a: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essencialmente por normas materiais que contemplam relações privadas internacionais</a:t>
            </a:r>
            <a:r>
              <a:rPr b="0" i="1" lang="pt-PT" sz="2000" spc="-1" strike="noStrike">
                <a:solidFill>
                  <a:srgbClr val="050701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B889-866C-4C68-9DE8-31F527C5D114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b435b"/>
                </a:solidFill>
                <a:latin typeface="Tahoma"/>
              </a:rPr>
              <a:t>2. Direito das Obrigaç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Situações jurídicas pelas quais uma pessoa está vinculada em benefício de outra a uma prestação (várias fontes: contratos, responsabilidade civil,...); definido pelo aspecto passivo (a obrigação, não o crédit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b435b"/>
                </a:solidFill>
                <a:latin typeface="Tahoma"/>
              </a:rPr>
              <a:t>3. Direitos Re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Atribuição de coisas - direitos (absolutos e oponíveis </a:t>
            </a:r>
            <a:r>
              <a:rPr b="0" i="1" lang="pt-PT" sz="2000" spc="-1" strike="noStrike">
                <a:solidFill>
                  <a:srgbClr val="050701"/>
                </a:solidFill>
                <a:latin typeface="Tahoma"/>
              </a:rPr>
              <a:t>erga omnes)</a:t>
            </a: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 sobre coi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b435b"/>
                </a:solidFill>
                <a:latin typeface="Tahoma"/>
              </a:rPr>
              <a:t>4. Direito da Famíl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Regula constituição da família (matrimónio, procriação, adopção) e relações que se estabelecem no seio des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b435b"/>
                </a:solidFill>
                <a:latin typeface="Tahoma"/>
              </a:rPr>
              <a:t>5. Direito das Sucess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Regula a vicissitude sucessão por morte (sucessão testamentária, sucessão legitimária, sucessão legítim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8675-0273-428F-A2E8-9E01A11A650E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3b435b"/>
                </a:solidFill>
                <a:latin typeface="Tahoma"/>
              </a:rPr>
              <a:t>Direitos Privados Especi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b435b"/>
                </a:solidFill>
                <a:latin typeface="Tahoma"/>
              </a:rPr>
              <a:t> </a:t>
            </a:r>
            <a:r>
              <a:rPr b="1" lang="pt-PT" sz="2400" spc="-1" strike="noStrike">
                <a:solidFill>
                  <a:srgbClr val="3b435b"/>
                </a:solidFill>
                <a:latin typeface="Tahoma"/>
              </a:rPr>
              <a:t>Direitos da “Propriedade Intelectua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b435b"/>
                </a:solidFill>
                <a:latin typeface="Tahoma"/>
              </a:rPr>
              <a:t>Direito de Autor </a:t>
            </a: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– direitos sobre obras literárias e artísticas; inclui os Direitos Conex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b435b"/>
                </a:solidFill>
                <a:latin typeface="Tahoma"/>
              </a:rPr>
              <a:t>Direito da Propriedade Industrial</a:t>
            </a:r>
            <a:r>
              <a:rPr b="1" lang="pt-PT" sz="2400" spc="-1" strike="noStrike">
                <a:solidFill>
                  <a:srgbClr val="3b435b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– direitos privativos sobre bens imateriais (invenções, os modelos de utilidade, os modelos e desenhos industriais, e sinais distintivos - marcas, denominações de origem, 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50701"/>
                </a:solidFill>
                <a:latin typeface="Tahoma"/>
              </a:rPr>
              <a:t>(</a:t>
            </a:r>
            <a:r>
              <a:rPr b="0" i="1" lang="pt-PT" sz="2000" spc="-1" strike="noStrike" u="sng">
                <a:solidFill>
                  <a:srgbClr val="050701"/>
                </a:solidFill>
                <a:uFillTx/>
                <a:latin typeface="Tahoma"/>
              </a:rPr>
              <a:t>Concorrência Desleal</a:t>
            </a:r>
            <a:r>
              <a:rPr b="0" i="1" lang="pt-PT" sz="2000" spc="-1" strike="noStrike">
                <a:solidFill>
                  <a:srgbClr val="050701"/>
                </a:solidFill>
                <a:latin typeface="Tahoma"/>
              </a:rPr>
              <a:t>, </a:t>
            </a:r>
            <a:r>
              <a:rPr b="0" i="1" lang="pt-PT" sz="2000" spc="-1" strike="noStrike" u="sng">
                <a:solidFill>
                  <a:srgbClr val="050701"/>
                </a:solidFill>
                <a:uFillTx/>
                <a:latin typeface="Tahoma"/>
              </a:rPr>
              <a:t>Direito da Informação</a:t>
            </a:r>
            <a:r>
              <a:rPr b="0" i="1" lang="pt-PT" sz="2000" spc="-1" strike="noStrike">
                <a:solidFill>
                  <a:srgbClr val="050701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b435b"/>
                </a:solidFill>
                <a:latin typeface="Tahoma"/>
              </a:rPr>
              <a:t>Direito Comer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Em geral, adaptação do Direito Privado Comum às necessidades da actividade económ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(</a:t>
            </a:r>
            <a:r>
              <a:rPr b="0" lang="pt-PT" sz="2000" spc="-1" strike="noStrike" u="sng">
                <a:solidFill>
                  <a:srgbClr val="050701"/>
                </a:solidFill>
                <a:uFillTx/>
                <a:latin typeface="Tahoma"/>
              </a:rPr>
              <a:t>Direito Marítimo</a:t>
            </a: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050701"/>
                </a:solidFill>
                <a:uFillTx/>
                <a:latin typeface="Tahoma"/>
              </a:rPr>
              <a:t>Direito dos Valores Mobiliários</a:t>
            </a: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050701"/>
                </a:solidFill>
                <a:uFillTx/>
                <a:latin typeface="Tahoma"/>
              </a:rPr>
              <a:t>Direito Bancário</a:t>
            </a: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050701"/>
                </a:solidFill>
                <a:uFillTx/>
                <a:latin typeface="Tahoma"/>
              </a:rPr>
              <a:t>Direito dos Seguros</a:t>
            </a: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050701"/>
                </a:solidFill>
                <a:uFillTx/>
                <a:latin typeface="Tahoma"/>
              </a:rPr>
              <a:t>Direito das Sociedades Comerciais</a:t>
            </a: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017F-F1FE-46DE-ABAA-1500E6A5033B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b435b"/>
                </a:solidFill>
                <a:latin typeface="Tahoma"/>
              </a:rPr>
              <a:t>Direito do Trabalh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Especialização das normas de Direito Privado no campo das relações de trabalho subordin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(inclui regulação das relações colectivas de trabalho – Direito Privado 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50701"/>
                </a:solidFill>
                <a:latin typeface="Tahoma"/>
              </a:rPr>
              <a:t>(</a:t>
            </a:r>
            <a:r>
              <a:rPr b="0" i="1" lang="pt-PT" sz="2000" spc="-1" strike="noStrike" u="sng">
                <a:solidFill>
                  <a:srgbClr val="050701"/>
                </a:solidFill>
                <a:uFillTx/>
                <a:latin typeface="Tahoma"/>
              </a:rPr>
              <a:t>Direito Processual do Trabalho</a:t>
            </a:r>
            <a:r>
              <a:rPr b="0" i="1" lang="pt-PT" sz="2000" spc="-1" strike="noStrike">
                <a:solidFill>
                  <a:srgbClr val="050701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b435b"/>
                </a:solidFill>
                <a:latin typeface="Tahoma"/>
              </a:rPr>
              <a:t>Direito da Segurança So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Regula as relações dos direitos e obrigações dos privados perante as prestações à previdência e correspondentes encarg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50701"/>
                </a:solidFill>
                <a:latin typeface="Tahoma"/>
              </a:rPr>
              <a:t>(dúvidas sobre a natureza das normas que disciplinam a intervenção de órgãos administrativ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b435b"/>
                </a:solidFill>
                <a:latin typeface="Tahoma"/>
              </a:rPr>
              <a:t>Outros Dire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99"/>
              </a:spcBef>
              <a:buClr>
                <a:srgbClr val="d2611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3b435b"/>
                </a:solidFill>
                <a:latin typeface="Tahoma"/>
              </a:rPr>
              <a:t>Direito do Consu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99"/>
              </a:spcBef>
              <a:buClr>
                <a:srgbClr val="d2611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3b435b"/>
                </a:solidFill>
                <a:latin typeface="Tahoma"/>
              </a:rPr>
              <a:t>Direito da Publicid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99"/>
              </a:spcBef>
              <a:buClr>
                <a:srgbClr val="d2611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3b435b"/>
                </a:solidFill>
                <a:latin typeface="Tahoma"/>
              </a:rPr>
              <a:t>Direito da Comunicação 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99"/>
              </a:spcBef>
              <a:buClr>
                <a:srgbClr val="d2611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3b435b"/>
                </a:solidFill>
                <a:latin typeface="Tahoma"/>
              </a:rPr>
              <a:t>Direitos da Personalid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6:02:37Z</dcterms:created>
  <dc:creator>Cláudia Trabuco</dc:creator>
  <dc:description/>
  <dc:language>en-US</dc:language>
  <cp:lastModifiedBy>Cláudia Trabuco</cp:lastModifiedBy>
  <dcterms:modified xsi:type="dcterms:W3CDTF">2009-09-04T14:46:22Z</dcterms:modified>
  <cp:revision>62</cp:revision>
  <dc:subject/>
  <dc:title>Interpretação e integração</dc:title>
</cp:coreProperties>
</file>