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E53-10DC-447D-BAB4-3177B8E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628-5102-4DF3-9B4B-3585D8B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D67-C54E-440B-82CD-D16AD64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A2A-DE01-4052-BCD7-D99B0D2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598-9E32-44F3-992C-30311F4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7E6-F72A-4236-86A6-854A3616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2AF-6ACF-4682-B766-CCDE080F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57D-E851-4074-A448-BBCE5982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899-CD70-46D5-8D29-3B298829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11E-C4E6-483E-81E2-C0843CC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7BF-AF04-4A9A-AF45-6942F1FB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C13-CD6F-4CEA-9442-EA4387D4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EC8D-8A0A-40D7-9E47-E0B0ADC2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Código civil de 1966 e as suas alt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dificações de f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L 496/77, de 25 de Novem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upressão da enfit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titutos ins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rrend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pectos do direito da famí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do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samento e divórc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estões de conjun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ntrato-pr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axas de j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As leis extravagan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s de arrenda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áusulas contratuai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s complement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digo de Processo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digo de Registo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digo de Registo pre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digo do nota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ivil e C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rt. 18.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Civil Europe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ito do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os ramos de Direito 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ito das Sociedades Comer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a</cp:lastModifiedBy>
  <dcterms:modified xsi:type="dcterms:W3CDTF">2007-10-07T10:40:3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