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CC9-1FD9-47AA-82C3-70BD2444098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B02B-536C-445D-ABE7-78A388CC4FC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48D-0062-4BEF-9FE3-467744178EF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EC0-6B41-4DE6-81A6-76DD50140C9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CD1-741D-4803-B517-FD93CCDE323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4BD-18F9-4B35-8967-20B718A33EA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29EA-454A-4A8D-B827-5FF78016DF0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106-0DE6-4527-A47C-8D22D43336F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62B-7A20-4EFB-ADE4-14A90E176C4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E910-C2C4-46A4-BCAE-650B7A97F07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A57-1890-44B6-BD8E-274C84D3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4DB-9A39-4849-B071-3E0AF7A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B7C-C9F7-47C4-A6A8-27D71E2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E0D-4E18-4DF8-94E6-F01E27D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886-9268-4A87-B565-42E873FD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5E8-BB02-4CB1-B215-7A1236B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AB5-DFFB-4C1D-ADD3-882D9A13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54D-2794-4959-AFCE-1B382755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A8F-4690-4864-9DB9-649BA5F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CBC-6963-4907-837F-25F3556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B3B-F8E2-4850-A4D0-7A148E4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8DA-FA89-4615-8D2C-C22F2D2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34BF-870D-4852-9A17-927767C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9FB-783B-4517-9850-D2201BF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7D52-A634-408B-ABD6-15151BC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9B24-D754-428E-8738-401DAE98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B7B-1D8B-4F50-8B69-C3554917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BD6-53D3-40BB-8D9C-DF34D94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9CF-6D8B-497A-B471-EE5A3F6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B5F-1A1B-466A-A203-0EDDE59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8CA-07FB-48A6-A568-0569330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3C0-406F-4764-AA8D-7064C95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E22-55DB-4EA7-9C42-8216AB8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4B1-D851-4F73-A862-C4575FF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B711-BD4E-414F-AF5B-4405837D28F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50B-5A00-4120-8F24-9679C78EE8B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771C-29EE-4A8B-BAE3-B18BC9588CAC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932968"/>
                </a:solidFill>
                <a:latin typeface="Tahoma"/>
              </a:rPr>
              <a:t>TGDP</a:t>
            </a:r>
            <a:endParaRPr b="0" lang="en-US" sz="40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2960" y="349992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forma das declarações negocia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561-9E57-4E88-9EC9-D87E06A718EA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932968"/>
                </a:solidFill>
                <a:latin typeface="Garamond"/>
              </a:rPr>
              <a:t>EVOLUÇÃO TECNOLÓGIC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Documento escrito e assinado – equivalência da assinatura electrón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Comércio electrónico (incluindo contratos de consumo) – DL 7/2004, de 7/1 – (ex. correio electrónico, s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  <a:ea typeface="Times New Roman"/>
              </a:rPr>
              <a:t>Artigo 26.º -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0" i="1" lang="pt-PT" sz="2000" spc="-1" strike="noStrike">
                <a:solidFill>
                  <a:srgbClr val="000066"/>
                </a:solidFill>
                <a:latin typeface="Garamond"/>
                <a:ea typeface="Times New Roman"/>
              </a:rPr>
              <a:t>1 - As declarações emitidas por via electrónica satisfazem a exigência legal de forma escrita quando contidas em suporte que ofereça as mesmas garantias de fidedignidade, inteligibilidade e conserv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0" i="1" lang="pt-PT" sz="2000" spc="-1" strike="noStrike">
                <a:solidFill>
                  <a:srgbClr val="000066"/>
                </a:solidFill>
                <a:latin typeface="Garamond"/>
                <a:ea typeface="Times New Roman"/>
              </a:rPr>
              <a:t>2 - O documento electrónico vale como documento assinado quando satisfizer os requisitos da legislação sobre assinatura electrónica e certific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233-2F42-4AE6-8CC1-F97B88D61C7E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Noçã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O modo como se exterioriza a vontade neg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Princípio da liberdade da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Artigo 219.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Forma livre e Forma determin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Forma legal (art. 221.º) – apenas perante cerne neg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Forma convencional (art. 223.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Forma voluntária (art. 222.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547-7C82-40C4-A685-102FDCD03100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Negócios formais (cfr. 238.º) ou sol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Negócios não formais, não solenes ou consens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Critério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pt-PT" sz="2800" spc="-1" strike="noStrike">
                <a:solidFill>
                  <a:srgbClr val="932968"/>
                </a:solidFill>
                <a:latin typeface="Garamond"/>
              </a:rPr>
              <a:t>forma leg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ângulo 3"/>
          <p:cNvSpPr/>
          <p:nvPr/>
        </p:nvSpPr>
        <p:spPr>
          <a:xfrm>
            <a:off x="3987000" y="3571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HIERARQUIA FORMAL</a:t>
            </a:r>
            <a:endParaRPr b="0" lang="en-US" sz="2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Forma liv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Forma escrita 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– 373.º, n.º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Forma solene 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– com suporte em doc. autêntico (ex.: EP – cfr. 369.º e ss.)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ou 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com intervenção de oficial com funções públicas de autenticação (ex.: funcionário ou sacerdote – casamen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Marcador de Posição do Número do Diapositivo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26D-9616-41F0-AE35-15F206FF1B33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FB9-5007-48D4-9DAD-65ABFDF8B9CB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932968"/>
                </a:solidFill>
                <a:latin typeface="Garamond"/>
              </a:rPr>
              <a:t>FORMA E FORMALIDAD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forma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 pertence à estrutura do negócio (requisito de existência – pode ou não ser requisito de validade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As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formalidades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 são actos ou procedimentos exteri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anteriores à decla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Processo preliminar de casamento (1610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contemporâneas da decla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Solenidades da escri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posteri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Registo pred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157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Garamond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FCF-94C0-4004-B44F-A328AE0F7C3B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932968"/>
                </a:solidFill>
                <a:latin typeface="Garamond"/>
              </a:rPr>
              <a:t>RAZÕES DETERMINANTES D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(cfr. 238.º, n.º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teresse das partes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reflexão, prova,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teresse de terceiros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public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Interesse comum das partes, de terceiros e da comunidade em geral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(certeza, clareza, segurança, controlo da validade dos act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4E9-30F7-4D32-9464-9F2A9CDDE338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932968"/>
                </a:solidFill>
                <a:latin typeface="Garamond"/>
              </a:rPr>
              <a:t>FORMA </a:t>
            </a:r>
            <a:r>
              <a:rPr b="1" i="1" lang="pt-PT" sz="2300" spc="-1" strike="noStrike">
                <a:solidFill>
                  <a:srgbClr val="932968"/>
                </a:solidFill>
                <a:latin typeface="Garamond"/>
              </a:rPr>
              <a:t>AD SUBSTANTIAM  </a:t>
            </a:r>
            <a:r>
              <a:rPr b="1" lang="pt-PT" sz="2300" spc="-1" strike="noStrike">
                <a:solidFill>
                  <a:srgbClr val="932968"/>
                </a:solidFill>
                <a:latin typeface="Garamond"/>
              </a:rPr>
              <a:t>E FORMA </a:t>
            </a:r>
            <a:r>
              <a:rPr b="1" i="1" lang="pt-PT" sz="2300" spc="-1" strike="noStrike">
                <a:solidFill>
                  <a:srgbClr val="932968"/>
                </a:solidFill>
                <a:latin typeface="Garamond"/>
              </a:rPr>
              <a:t>AD PROBATION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16128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alta da forma legal gera nulidade do negócio: art. 220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</a:rPr>
              <a:t>2.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forma como requisito de pro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Requisito substituível (forma </a:t>
            </a:r>
            <a:r>
              <a:rPr b="0" i="1" lang="pt-PT" sz="2200" spc="-1" strike="noStrike">
                <a:solidFill>
                  <a:srgbClr val="000000"/>
                </a:solidFill>
                <a:latin typeface="Garamond"/>
              </a:rPr>
              <a:t>ad probationem</a:t>
            </a: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Requisito insubstituível (forma </a:t>
            </a:r>
            <a:r>
              <a:rPr b="0" i="1" lang="pt-PT" sz="2200" spc="-1" strike="noStrike">
                <a:solidFill>
                  <a:srgbClr val="000000"/>
                </a:solidFill>
                <a:latin typeface="Garamond"/>
              </a:rPr>
              <a:t>ad substantiam</a:t>
            </a: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3. A forma legal como requisito </a:t>
            </a:r>
            <a:r>
              <a:rPr b="0" i="1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d substantiam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(art. 364.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1. Quando a lei exigir </a:t>
            </a:r>
            <a:r>
              <a:rPr b="1" lang="pt-PT" sz="2200" spc="-1" strike="noStrike">
                <a:solidFill>
                  <a:srgbClr val="000000"/>
                </a:solidFill>
                <a:latin typeface="Garamond"/>
              </a:rPr>
              <a:t>como forma </a:t>
            </a: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da declaração negocial documento autêntico, autenticado ou particular, não pode este ser substituído por outro meio de prova ou por outro documento que não seja de força probatória super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2. Se resultar claramente da lei que o documento é exigido apenas </a:t>
            </a:r>
            <a:r>
              <a:rPr b="1" lang="pt-PT" sz="2200" spc="-1" strike="noStrike">
                <a:solidFill>
                  <a:srgbClr val="000000"/>
                </a:solidFill>
                <a:latin typeface="Garamond"/>
              </a:rPr>
              <a:t>para prova </a:t>
            </a:r>
            <a:r>
              <a:rPr b="0" lang="pt-PT" sz="2200" spc="-1" strike="noStrike">
                <a:solidFill>
                  <a:srgbClr val="000000"/>
                </a:solidFill>
                <a:latin typeface="Garamond"/>
              </a:rPr>
              <a:t>da         declaração, pode ser substituído por confissão expressa…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8A4-048F-45FA-8E80-FB46B7DB8333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932968"/>
                </a:solidFill>
                <a:latin typeface="Garamond"/>
              </a:rPr>
              <a:t>RELEVÂNCIA JURÍDICA DA FORMA CONVENCIONA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Negócio não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Art. 223.º/1:  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antes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…presunção da essencialidade -  ilid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pt-PT" sz="2800" spc="-1" strike="noStrike">
                <a:solidFill>
                  <a:srgbClr val="000000"/>
                </a:solidFill>
                <a:latin typeface="Garamond"/>
              </a:rPr>
              <a:t>após</a:t>
            </a: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…223.º/2: consolid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Nulid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aramond"/>
              </a:rPr>
              <a:t>Ineficácia? [CF, II, p.249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938-8165-409F-964A-1E42F6DA1B45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57120" y="42840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932968"/>
                </a:solidFill>
                <a:latin typeface="Garamond"/>
              </a:rPr>
              <a:t>SIMPLIFICAÇÃO FORMA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DL n.º 76-A/2006, de 29 de Março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– revisão do CSC – documento escrito com assinatura reconhecida presencialmente ou, em alguns casos, doc. escri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Lei n.º 116/2008, de 4 de Julho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– contratos e actos jurídicos que têm como objecto coisas imóveis (EP ou documento particular autentic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932968"/>
                </a:solidFill>
                <a:latin typeface="Garamond"/>
              </a:rPr>
              <a:t>	</a:t>
            </a:r>
            <a:r>
              <a:rPr b="0" lang="pt-PT" sz="2400" spc="-1" strike="noStrike">
                <a:solidFill>
                  <a:srgbClr val="932968"/>
                </a:solidFill>
                <a:latin typeface="Garamond"/>
              </a:rPr>
              <a:t>875.º, n.º 1, 947.º, n.º 1, 413.º, n.º 2, 714.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1008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932968"/>
                </a:solidFill>
                <a:latin typeface="Garamond"/>
              </a:rPr>
              <a:t>Diplomas sobre “empresa na hora”, “associação na hora”, “casa pronta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Garamond"/>
              </a:rPr>
              <a:t>Um único controlo da legalidade – </a:t>
            </a:r>
            <a:r>
              <a:rPr b="0" lang="pt-P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forço do papel dos registos públicos (comercial e pred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Seta para baixo 4"/>
          <p:cNvSpPr/>
          <p:nvPr/>
        </p:nvSpPr>
        <p:spPr>
          <a:xfrm>
            <a:off x="3643200" y="4857840"/>
            <a:ext cx="1571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02:37Z</dcterms:created>
  <dc:creator>Cláudia Trabuco</dc:creator>
  <dc:description/>
  <dc:language>en-US</dc:language>
  <cp:lastModifiedBy>Cláudia Trabuco</cp:lastModifiedBy>
  <dcterms:modified xsi:type="dcterms:W3CDTF">2009-10-26T01:21:46Z</dcterms:modified>
  <cp:revision>73</cp:revision>
  <dc:subject/>
  <dc:title>Interpretação e integração</dc:title>
</cp:coreProperties>
</file>