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84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76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0"/>
            <a:ext cx="2876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564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120" y="4698720"/>
            <a:ext cx="53118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96360"/>
            <a:ext cx="2876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396360"/>
            <a:ext cx="2876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499-BC2B-432F-81D5-792A8C4C627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84600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63120" y="4698720"/>
            <a:ext cx="53118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§ 13.º BGB: Consumidor é toda a pessoa singular que conclua um negócio jurídico com uma finalidade que não lhe possa ser imputada a título empresarial ou de profissional livre (in MCordeiro,I,1, p.2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5B6-DF4C-4DB1-80E0-D690995F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5DD-2AFB-452F-B9FA-AED51B6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726-C976-47CC-9899-BBDA3200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E6D-055D-4DF5-99EA-0FA9B5A4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B2D-B7FF-4B1F-88D5-0C8CA65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458-8145-4DBA-99F8-90D9CD0E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0C8-3F55-4ACE-B4AD-ABD413BD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D45-D897-4908-9FC7-851B847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1C3-3497-402F-B9A3-44C3A864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220-6D19-4B10-96E6-F11E98A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F55-E5E2-4BDD-A228-1742471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B8F-2ABA-49B9-B1B5-8D689B2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943-D90A-4DD4-A195-9CF3B12D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dos Consumi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go 2.º-Lei 24/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ção e âmbi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Considera-se consumidor todo aquele a quem sejam fornecidos bens, prestados serviços ou transmitidos quaisquer direitos, destinados a uso não profissional, por pessoa que exerça com carácter profissional uma actividade económica que vise a obtenção de benefíc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úblico/Priv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rtigo 1.º</a:t>
            </a:r>
            <a:br>
              <a:rPr sz="2400"/>
            </a:b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ver geral de protecção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1 - Incumbe ao Estado, às Regiões Autónomas e às autarquias locais proteger o consumidor, designadamente através do apoio à constituição e funcionamento das associações de consumidores e de cooperativas de consumo, bem como à execução do disposto na presente le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2 - A incumbência geral do Estado na protecção dos consumidores pressupõe a intervenção legislativa e regulamentar adequada em todos os domínios envolvid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o autóno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Código do consumid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Francês: Código do cons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as especiais de direito civ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alem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ntónio Menezes Cordeiro, Tratado de direito civil português, I /1,2005, § 12.º, p. 201 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rlos Ferreira de Almeida, Direito do consumo, Almedina, 2005, especialmente §§ 4.º e 6.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nes</cp:lastModifiedBy>
  <dcterms:modified xsi:type="dcterms:W3CDTF">2007-10-03T19:10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