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FBD5-FAD5-422D-81B7-1A72D44EF0BB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Pessoalmente = não carece de ser substituída por um representante legal; autonomamente = não carece de consentimento de outra pessoa (assisten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79EC-0D1F-42E4-9862-1699D406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F4DE-9D9D-4A0C-A7B9-3F9CF4DC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529E-CFC8-4FFE-83B3-5994219B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17D9-2ABF-4A95-A6C3-E0B0B496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D7DB-BF98-4D06-B0D6-18D5DEF9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5998-8331-4AE3-AA0B-ED0E65C4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2C85-EDCA-41DB-8041-51494C83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C819-A2EE-4D01-B46A-AB0DDA4D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0B13-7E31-46C0-A5B6-A42AC06B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4CC6-0AD6-40E3-B851-36C91867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4410-B073-4653-95C3-A89C30ED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410A-9C17-4BC5-98F9-6285CECC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40F6-B644-4E8A-98FF-0D725ECD4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Teoria geral das pessoas jurídica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idade jurídica; pessoas singulares e colectivas; capacidade jurídica; esfera jurídica; património; responsabilid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as Escolas sobre a Capacid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apacidade juríd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e go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e exercí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apacidade jurídica e capacidade de exercício de dire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uas esco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Luís Carvalho Fernandes, I, p.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ota Pinto, p. 194 e 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idade e capacidade juríd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 qualidade que o homem tem de ser sujeito de direitos e obrigações é o que se chama capacidade jurídica ou personalidade” [José Tavares, Os princípios fundamentais de direito civil, 1929, p.6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fr. art.67.º C. civil [MP,p.220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cidade Juríd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Genérica e específica, em especial as pessoas colectivas (art. 160.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Capacidade negocial? [Hörster, p.309; MP, p.22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pac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z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Exercí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é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c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sabil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je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ss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mon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mi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sonalidade juríd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MA: “Idoneidade ou aptidão para receber – para ser centro de imputação deles – efeitos jurídicos” (in MP, p. 19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Ferrara: « a abstracta possibilidade de receber os efeitos da ordem jurídica», sendo «o fundamento e a pré-condição de todo o direito e um status» (In MP, nota 193, p. 19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jeito de dire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 susceptível de ser titular de direitos e obrigações (MP, 1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II- Pessoas singulares e pessoas colectiva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J é uma qualidade atribuída pelo direito posi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das as pessoas humanas ( = pessoas singulares, C. Civil, art. 66.º - 156.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outras entidades que o Código civil chama pessoas colectivas (art. 157.º-194.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J /Sujeito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ã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penas as pessoas singulares e as pessoas colectivas podem ser sujeitos de direi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extensão da personalidade judiciária feita pelo art. 6.º do C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ERSONALIDADE E CAPACIDADE JUDICIÁRlA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digo de Processo Ci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TIGO 5.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nceito e medida da personalidade judiciá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 personalidade judiciária consiste na susceptibilidade de ser pa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Quem tiver personalidade jurídica tem igualmente personalidade judiciá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são da personalidade judiciári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IGO 6.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êm ainda personalidade judiciá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A herança jacente e os patrimónios autónomos semelhantes cujo titular não estiver determin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As associações sem personalidade jurídica e as comissões especia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As sociedades civ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) As sociedades comerciais, até à data do registo definitivo do contrato pelo qual se constituem, nos termos do artigo 5.ºdo Código das Sociedades Comercia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) O condomínio resultante da propriedade horizontal, relativamente às acções que se inserem no âmbito dos poderes do administrad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) Os navios, nos casos previstos em legislação espe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MENTO (CEE) n.º 2137/85 DO CONSELH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igo 1.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Os Agrupamentos Europeus de Interesse Económico […]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O agrupamento assim constituído tem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pacida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m seu próprio nome, para ser titular de direitos e de obrigações de qualquer natureza, para celebrar contratos ou praticar outros actos jurídicos e estar em juízo, a partir da data do registo previsto no artigo 6.º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Os Estados-membros determinarão se os agrupamentos inscritos nos seus registos por força do artigo 6.º têm ou nã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sonalidade juríd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II- Capacidade juríd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Medida de direitos e obrigações de que uma pessoa jurídica pode ser .....  titular =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capacidade de gozo/cap. juríd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ercer pessoal e autonomamente =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capacidade de exercí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apacidade é Medida… que poderá aumentar ou diminuir....círculo de dire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xnes</cp:lastModifiedBy>
  <dcterms:modified xsi:type="dcterms:W3CDTF">2007-10-10T18:23:1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