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790-0A73-4EC1-A7ED-4096B0CE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A85-EB07-4862-8A2B-336EDF1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23C-7840-4B6D-B280-0DDF7B0A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637-1DDD-4F92-9163-61A96E7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F5E-3503-48EE-B010-6201D516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414-0EEC-49AE-BEBD-0878EAA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F59-0AB4-4CE9-A4E5-FCFCB9F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AE3-F763-4752-8AB5-DCA8191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0CB-A55D-423A-8A6D-3D6711D6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71E-8470-4C0A-9CB4-5EE4B2E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471-DC85-44CE-BDF7-53E8D23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93C-15F5-4265-96BB-2DC43B4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6C0-C507-4A69-BC8C-BE75E88D8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BG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- Parte Geral [ Allgemeiner Teil - §§1-24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- Direito das relações obrigacionais [Recht des Schuldverhältnisse - §§ 241- 85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I- direito das coisas [Sachenrecht - §§854-129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V- Direito da Família [ Familienrecht - §§1297-192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V – Direito das Sucessões [Erbrecht - §§ 1922-2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8:36:21Z</dcterms:created>
  <dc:creator>Manuel Pita</dc:creator>
  <dc:description/>
  <dc:language>en-US</dc:language>
  <cp:lastModifiedBy>Manuel Pita</cp:lastModifiedBy>
  <dcterms:modified xsi:type="dcterms:W3CDTF">2005-09-24T08:36:44Z</dcterms:modified>
  <cp:revision>1</cp:revision>
  <dc:subject/>
  <dc:title>BGB </dc:title>
</cp:coreProperties>
</file>