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F9B-235F-440C-AAB0-1D60F348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E60-CFB3-4977-AD13-220DB26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C79-9E8F-4D85-AB09-949E1FAA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917-6768-4C49-8327-DE2F45EE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254-0306-4307-A11E-EF258FB8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168-C800-40D8-8A84-5D7C64C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2AD-E46A-4E30-BB8F-66B6F16B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B8B-0980-4862-B361-8280EAD3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044-6303-48DB-AC6E-0A35DE3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637-A8DA-4E64-9864-6C80FC7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096-5307-4683-8278-B087D77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310-C2AA-4766-8AF5-64FA4E5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EE7-102B-4081-B247-507AE26D9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lação juríd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ado ac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subjec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Noçã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der atribuído pela ordem jurídica para a tutela de um interesse próp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ado pas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ncu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Noçã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cessidade de adoptar um determinado comportamento positivo (acção) ou negativo (absten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ituações ac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spé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- Direito subjectivo propriamente 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2- Direito potes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stitutivo      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odificativo      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tin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ituação Pas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Espé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1- D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2- Suje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iguras afi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. Subj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der 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teresse juridicamente prote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xpectativa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culdades juríd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xcep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Ónus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ituação Passiva Cor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ver, suje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ver de abste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je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je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pt</cp:lastModifiedBy>
  <dcterms:modified xsi:type="dcterms:W3CDTF">2006-09-27T17:53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