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0EDC-83D5-4D67-9AC2-41258C3F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ota Pinto, n.41, p.178 e n.º45, p.189 (v. Tb. Nota 191, p. 18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9AB-70BE-4ED8-9F6A-9B8F18F9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C22-C644-44E1-A214-DC681583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946-335E-47A4-883C-AA4C6168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FF6-93E8-4C9E-B9E4-A8E8DDAA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289-339F-4104-B361-E295A9C3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C6E-453F-4F01-B8AB-CC0C7ED5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4F5-E052-4E6D-8479-E46D6041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E03-B5AE-4A84-AA74-3574DB60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17E-1AF7-46F5-8C0C-9B3053FD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8FC-EE1A-4BA8-B410-4FC24878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DC4-9437-4486-9AC1-8904D37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497-950C-4A69-B145-CFB8769F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D198-22E2-46B1-8E1B-DAF399834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l. Jur. </a:t>
            </a: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G, Tit.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1- As Pessoas (El. Subjec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2- As coisas (El. Objectivo, Objec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3- Facto Jurí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4- Tutela Jurídica (Garant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lementos </a:t>
            </a: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cola de Lisb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uj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mediato (juríd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diato (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acto Jurí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Garan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rvalho Fern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ontes (factos Jurídic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scola de Coim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istingue: Elementos e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-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j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j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ac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Gara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B – Conteúd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 subjectivo e dever jurídico ou suje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pt</cp:lastModifiedBy>
  <dcterms:modified xsi:type="dcterms:W3CDTF">2006-09-22T14:36:0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